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2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</p:sldMasterIdLst>
  <p:notesMasterIdLst>
    <p:notesMasterId r:id="rId158"/>
  </p:notesMasterIdLst>
  <p:sldIdLst>
    <p:sldId id="256" r:id="rId159"/>
    <p:sldId id="257" r:id="rId160"/>
    <p:sldId id="258" r:id="rId161"/>
    <p:sldId id="259" r:id="rId162"/>
    <p:sldId id="260" r:id="rId163"/>
    <p:sldId id="261" r:id="rId164"/>
    <p:sldId id="262" r:id="rId165"/>
    <p:sldId id="263" r:id="rId166"/>
    <p:sldId id="264" r:id="rId167"/>
    <p:sldId id="265" r:id="rId168"/>
    <p:sldId id="266" r:id="rId169"/>
    <p:sldId id="267" r:id="rId170"/>
    <p:sldId id="268" r:id="rId171"/>
    <p:sldId id="269" r:id="rId172"/>
    <p:sldId id="270" r:id="rId173"/>
    <p:sldId id="271" r:id="rId174"/>
    <p:sldId id="272" r:id="rId175"/>
    <p:sldId id="273" r:id="rId176"/>
    <p:sldId id="274" r:id="rId177"/>
    <p:sldId id="275" r:id="rId178"/>
    <p:sldId id="276" r:id="rId179"/>
    <p:sldId id="277" r:id="rId180"/>
    <p:sldId id="278" r:id="rId181"/>
    <p:sldId id="279" r:id="rId182"/>
    <p:sldId id="280" r:id="rId183"/>
    <p:sldId id="281" r:id="rId184"/>
    <p:sldId id="282" r:id="rId185"/>
    <p:sldId id="283" r:id="rId186"/>
    <p:sldId id="284" r:id="rId187"/>
    <p:sldId id="285" r:id="rId188"/>
    <p:sldId id="286" r:id="rId189"/>
    <p:sldId id="287" r:id="rId190"/>
    <p:sldId id="288" r:id="rId19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notesMaster" Target="notesMasters/notesMaster1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slide" Target="slides/slide7.xml"/><Relationship Id="rId166" Type="http://schemas.openxmlformats.org/officeDocument/2006/relationships/slide" Target="slides/slide8.xml"/><Relationship Id="rId167" Type="http://schemas.openxmlformats.org/officeDocument/2006/relationships/slide" Target="slides/slide9.xml"/><Relationship Id="rId168" Type="http://schemas.openxmlformats.org/officeDocument/2006/relationships/slide" Target="slides/slide10.xml"/><Relationship Id="rId169" Type="http://schemas.openxmlformats.org/officeDocument/2006/relationships/slide" Target="slides/slide11.xml"/><Relationship Id="rId170" Type="http://schemas.openxmlformats.org/officeDocument/2006/relationships/slide" Target="slides/slide12.xml"/><Relationship Id="rId171" Type="http://schemas.openxmlformats.org/officeDocument/2006/relationships/slide" Target="slides/slide13.xml"/><Relationship Id="rId172" Type="http://schemas.openxmlformats.org/officeDocument/2006/relationships/slide" Target="slides/slide14.xml"/><Relationship Id="rId173" Type="http://schemas.openxmlformats.org/officeDocument/2006/relationships/slide" Target="slides/slide15.xml"/><Relationship Id="rId174" Type="http://schemas.openxmlformats.org/officeDocument/2006/relationships/slide" Target="slides/slide16.xml"/><Relationship Id="rId175" Type="http://schemas.openxmlformats.org/officeDocument/2006/relationships/slide" Target="slides/slide17.xml"/><Relationship Id="rId176" Type="http://schemas.openxmlformats.org/officeDocument/2006/relationships/slide" Target="slides/slide18.xml"/><Relationship Id="rId177" Type="http://schemas.openxmlformats.org/officeDocument/2006/relationships/slide" Target="slides/slide19.xml"/><Relationship Id="rId178" Type="http://schemas.openxmlformats.org/officeDocument/2006/relationships/slide" Target="slides/slide20.xml"/><Relationship Id="rId179" Type="http://schemas.openxmlformats.org/officeDocument/2006/relationships/slide" Target="slides/slide21.xml"/><Relationship Id="rId180" Type="http://schemas.openxmlformats.org/officeDocument/2006/relationships/slide" Target="slides/slide22.xml"/><Relationship Id="rId181" Type="http://schemas.openxmlformats.org/officeDocument/2006/relationships/slide" Target="slides/slide23.xml"/><Relationship Id="rId182" Type="http://schemas.openxmlformats.org/officeDocument/2006/relationships/slide" Target="slides/slide24.xml"/><Relationship Id="rId183" Type="http://schemas.openxmlformats.org/officeDocument/2006/relationships/slide" Target="slides/slide25.xml"/><Relationship Id="rId184" Type="http://schemas.openxmlformats.org/officeDocument/2006/relationships/slide" Target="slides/slide26.xml"/><Relationship Id="rId185" Type="http://schemas.openxmlformats.org/officeDocument/2006/relationships/slide" Target="slides/slide27.xml"/><Relationship Id="rId186" Type="http://schemas.openxmlformats.org/officeDocument/2006/relationships/slide" Target="slides/slide28.xml"/><Relationship Id="rId187" Type="http://schemas.openxmlformats.org/officeDocument/2006/relationships/slide" Target="slides/slide29.xml"/><Relationship Id="rId188" Type="http://schemas.openxmlformats.org/officeDocument/2006/relationships/slide" Target="slides/slide30.xml"/><Relationship Id="rId189" Type="http://schemas.openxmlformats.org/officeDocument/2006/relationships/slide" Target="slides/slide31.xml"/><Relationship Id="rId190" Type="http://schemas.openxmlformats.org/officeDocument/2006/relationships/slide" Target="slides/slide32.xml"/><Relationship Id="rId191" Type="http://schemas.openxmlformats.org/officeDocument/2006/relationships/slide" Target="slides/slide33.xml"/><Relationship Id="rId1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dt" idx="169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 type="sldNum" idx="170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150B8A-F6F1-4429-8DDC-84A1AA7A19A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AA91C2-8E44-455C-9874-636567F8D09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8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032E05-BE00-4FE0-99E5-589517CEB17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2233EF-D063-422A-AAF1-CE7F6A05D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B38A8B-0DE8-41D9-A09C-6B3630879C9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DF7817-66F5-4214-B52E-135309256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C14D9C-C5B0-4C1A-9AA1-7DCB3EF06FE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A5D8A0-C7D9-420A-A1A9-E2D429FC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578E4C-7798-48FB-9ECA-79C19E40091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81256D-3C64-48A2-94C9-A8E95CD4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605489-0475-40C9-9B08-B756B2F494E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3CCCB5-A097-4253-9CFE-59C774C2C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DD9C9-D274-49E3-9FA9-E2CA844FFFF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00D7C-D4D4-40D9-87DE-56828DC6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AD8935-C365-4A7C-996A-72100BAC61C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1351C7-4403-491A-B807-6C504F7E8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99B12B-B475-4371-B4A5-A7BD1A7BB27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43B096-2159-48BC-9588-BF83CB085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06ADF6-BD23-4E0B-A1F1-8C4FFE0F292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83CFB9-90B8-47CF-BEDE-79B4A8805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788657-6966-447C-9BE9-42587118120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1D51FB-B4AB-4146-8F52-17E03ED4E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B445B7-752F-4CDC-A59F-D2BC99215F9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0472E7-CB67-437D-94CF-A59D7873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60D04C-0241-4DFE-B40F-319BAE8C375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FD0EE7-88C4-4CD2-B2EC-C6B34B07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3BB513-8A1C-4DB0-BFE5-FD57E893387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67B3AA-BB54-4820-830C-CC1DC8FA9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916BD2-1FDB-4275-8DD3-5145DDFC8D5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2AC47D-99BC-401E-AAF8-09C44C80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979789-0255-4683-B428-AC3C21D4F5F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2C783D-866C-417C-BD8E-D96839040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A4F20E-7273-4986-8214-9B65CD70872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B1CDB8-813D-458F-BE3A-58C9637D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AE7DEE-4B37-4826-B2BC-8946B3E8FF1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F72988-CE0A-42B1-A87A-08F58561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E92FB2-B71D-42A1-BD57-28A2F00CE42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848932-D2F9-49A2-B6FB-55115995B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74A012-07FC-4C18-872D-3549FE5DDB7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AD2223-B098-40DC-A3E9-B16D3117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6FAF77-C170-4C9F-9BEB-688070E2339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30DFF0-258A-4639-B0DA-E61F298CE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B9AEB5-0D16-4402-B631-097AA79EDE6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7425A-B2AE-45F6-8C6D-F4F10A84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75B02-3058-48D9-9BB5-EECDEF33D3D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769CDB-AFFB-4F5A-9AF6-7DDC1C1F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4C0B40-5E2F-4F0C-B467-C10718C6A30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5281AC-69C3-43F8-B53C-CFC19557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A78714-7C1A-464F-89E2-18A4E78AB8C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D81BC-8B61-4A84-8A42-342331587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ED2538-463F-4884-8B9E-1007FC83D25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50F0F1-4BD0-4694-9115-7A40AF10A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91E2CB-C8B7-4948-BBCB-69202C43D38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5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B5B458-E9E8-4DEC-AF34-FF3176753D7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990866-83C9-4C73-BF21-4D1E073A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38AB4-4B02-4D42-9E54-9253B833062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B9A66F-FB68-421E-BDA0-104F3DD3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48D21A-903F-480D-BCD9-79E80881FC5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9E9FE8-8672-40F9-9844-118ECC02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1A6331-895A-41D7-A4C0-2019645519E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075376-27C9-484A-9FBB-6C5EAF40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2EEB22-B292-4A3D-B5E2-F51582CBF40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F06C65-3805-46FC-B3B9-5D869ABB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F9802-6E0A-4807-B96B-52B51FC68BF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228B16-AC2F-4B7C-93FC-507E872EB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5A01-C9D0-4B91-A4EE-C5043FB86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1587-EC6A-4222-B713-CAFB719F61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EA7A-A325-4B52-AFD0-DF9330AF0007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0B573AF-2103-456B-A884-25A83E930772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FDAB4FF-51D2-471E-8878-2FA3AECCE87F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9B4DFCF-BFDA-4B6D-AA86-93641E36DBED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843F46E-A553-493A-A82A-4C6054677248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F498AD2-5246-43A4-9EB4-C5553A653EF0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7408667-0C1E-4C98-8265-EC6D8A4D279D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A4BB666-94AD-4A04-87DD-DC794180191F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8C5B872-8226-472E-9D94-E630B86C15FC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81FED7C-8444-4B0E-8F6B-131154033759}" type="slidenum">
              <a:t>&lt;#&gt;</a:t>
            </a:fld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17928AC-1AAE-4954-BC99-0E25F30365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8E3C-9111-46A0-A014-F27A32ECB65E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18A5889-5A17-4F0B-9010-BE561CB9AC35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1068056-8CC6-482C-BC7F-2066DE149FA8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506CA9-E47B-4758-87E2-D63A6197A7D6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61D6D79-575F-4E30-8B56-6D28789B8525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71CED54-3030-4A34-B099-B1AB82828CC6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5643F3-FA34-4BBD-A02F-93B6957C2044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18C19E-F0B5-4F33-ADBA-AC819A108B38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BA678F-F7EB-4801-A384-94FEFB43197D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9725ECC-2B38-4B2A-AABE-8807F3DC0F00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3B2239-EF47-4BEE-A997-3F65472182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E169-1CB3-4928-844B-AFE2F22C6522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1E8AD5-51DE-4558-8069-7B879AA0A376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008592-651E-4848-8FE9-B8C11F5C5D8D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31AEA4-6054-4976-8238-66204B72FE52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A6BB74-7948-4159-B166-C72469001B15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206AE6-31FE-4DCC-8EB8-8E308D548F5E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27FB99-BE56-446E-A8A9-D3732E863310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7207F0-528E-4D32-8049-9385D74B7862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2F7702-E776-4CA1-BFEF-03BAE175BEEE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B742D1-BC12-40C9-B693-230B52D2847F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F7DC3E-D00A-4DA0-8BA6-C09FF240CC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CD4D-7F70-4D46-BC9A-8250DB2643C1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BE7387-2020-41DF-B2F7-93D25FFE2BB9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6F183F-5986-406B-A9EE-8EE237C70375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21417A-47ED-4FED-B90C-2D4CD91D424D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7F1590-6B90-4B29-8148-3E6EDBABEABC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2C7B57-06F7-4970-8F76-8F89A4517640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B5FAE74-7E8E-4B4D-B0F5-C1A2466D0942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0286079-ECCE-4425-AF4C-EE62759CC1CE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BD17E61-D9D0-446E-9E85-1571C8FFC903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F903ECC-B72C-4809-8C9C-5EE97CDD37A1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04EAAB-FA31-49B4-9199-C641EA7442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9898-7DFE-4092-9A32-B146DD22C9F3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98EBCB2-F69F-4D34-A726-02EC82EC1054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A00E5C-CED9-4607-A935-F4F80E846E6D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C054866-1929-44D4-B79F-2499A0D11676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0C44583-E753-4816-BE19-A30A52D8A725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6B52883-A0ED-468E-9C97-28C392F0CE86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3EED1F0-B3D5-4FA0-B36F-A466BD41BE26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1D09DDA-34C1-4740-956A-C51F73D78DE3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95EED2-2E00-445B-A335-57938EDCCFC9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114D376-13D3-4F04-B306-C406992A2F17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6A8F80F-8D0C-49A3-A9A7-71FD816558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94B4-593B-424D-94B1-C71901D5A7F2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7F7602B-E7AC-42B8-BF46-8266773C6A4E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EAC8153-8180-4C2D-B952-64549287547E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2041F53-2D1C-4EB8-AB8A-26189FF06069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29F51FD-17FC-4968-8883-5FDCDB46BBDA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7BA9AFF-C173-4B38-AD04-880817DF3CE1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B38B85E-55DC-4894-AE28-D0EC010A806F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370EAAE-D65E-424E-AF44-E201898A172F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416678-EFC0-4C46-8854-42495A553AED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E00C10-1729-4F9C-82C9-7AD0514B6F6F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32500D-98C0-4E04-97C7-D43D31A98F4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4B43-1A98-4A2F-89B6-4023C7CA69A8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A5EFEF-E687-4276-A1CB-4D78ABCE1A10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F0A1EA-8066-4F96-A247-0BB06F6DDC11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CEA494-79CC-4533-9E79-DCF293287E8A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77FC68-F4B4-46A1-8728-6F74C4925E27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9AA22E-C16E-4E86-8F54-02F2B8B1C4B1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9AA2A8-B9C8-4425-A0B5-C6AC1A07AF14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7BF867-CD57-494A-BC2F-7FEAA4A83AB1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C88F80-AA49-456E-BA13-4908A1BC2A9C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076750-8A72-4258-B1A6-B4D260081BF5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97DCE26-C1CA-49AF-B367-EE6F36D7D1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401C-FAAB-47CA-9870-148E4D575E3A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9AE074E-0839-451E-A2B2-6E0FEC860F51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BDF07E9-9943-4784-9787-E7978606732B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05781C-8E59-4278-A88B-01BA8D0159AC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F6F44E-B2BE-49C4-93FD-4C81EFC8F8C4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7017B99-4430-40C3-B95B-E28E05C3151C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ADE099E-020F-4608-BD3D-C0E64211F494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C95CB5B-E6F1-4C43-ADAD-76F25C9570E9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5C3C1EF-9307-4529-B711-C42068747551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87D31EB-6795-4DBA-9194-F94C10805C48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D580D5C-145D-49D7-B413-6A64FB2A14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4979-3E3F-4ABD-A2F8-D1D4D3E76214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499B0C8-55B3-4019-ACA0-FAB3C95E69DF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8A4D1A-18CA-427D-BF62-9CDD20F93F9B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F8CF22-42F3-4FF0-93B7-84F376B9C394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8774C8-810F-4C4F-B590-F30C19D3BAF8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F87D0AD-D940-4998-9CE0-B4ED3DD384DB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254DC81-0ABA-4B41-9AB7-7B9385760D27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2D28987-9319-4E57-B4FA-7F909A825E75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40F9C67-76CB-4E9D-8A60-7E9DE96B0040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F97FA38-068C-4852-88F9-86C9765069B9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33CC471-103D-4744-A907-6218B178EC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D01E6-9922-460C-A19C-5E793B0116EC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5C8D32D-4CD1-4A12-B91C-CB92D62B3B8E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73B037-10E6-4EA7-8413-6E5CCD0044FD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C25B319-CC2B-4945-AB00-2436AB14E1E8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B4488-204F-4069-9035-521BF8C57646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38F61D-0444-4E97-8AF5-0D874726AF7D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27BAB5-E017-4C08-BBC4-7533B0FEA5D5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53C2CD-544F-4088-8A28-2465F6B999FC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67327B-71C1-41E9-9A0B-D7DD4E0E969A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9B0A26-757D-4932-A0BD-C11BDF6DE04F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9B60A0-C681-45F9-BA4E-A2DE69278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1EC-D750-4EBD-AFCB-A274FF1DBB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D957A-A77D-43F6-B325-BB02AF9DEBD6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F69411-E198-4A72-895B-134437922257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C5C8B8-6A8D-4010-85FF-3D211F7A065C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EE3F22-BBFB-4EA3-969D-572DCD49DAA7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5BF866-C21E-4BD2-AE24-1D78CC9B1512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78FA7-523E-4036-AC30-BB54DA73EF0D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1D4B882-89A0-44F0-A082-CF622E10F95C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5FCC927-F96D-4880-AFE3-4580A1C315C4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BD8E956-6971-41E2-9FB5-BF5C73E0C9A5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C75CA06-1913-4E0E-A81E-ECE0C6374484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93D3543-7895-45A7-807E-773173680A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0CA7F-C3FE-439E-BC5C-5962A31A389A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15597A8-2B4B-44E3-BE60-4352F2CC962D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F7BF842-C3A1-4410-90F1-1AAA5A64550B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34825BB-7BE6-4FBD-9F7E-24E54DFE8887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C9376CC-AEDA-4B2C-B4BC-9F342F5E3FF5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A454EAF-49AF-440B-9FF5-F19262FF25D8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ADA2CA9-4A72-4591-82CF-53DDF75800FE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2CC4029-0368-47B8-8C8F-D8D530106792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9E9104F-0F59-45F6-A92D-EA97998E3BB1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E69B61F-87A4-4651-ACDC-AE9C9155BB93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8EC3E3C-9E6A-417D-A728-E0868B037AE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D2D65-8CA7-4FC4-85A6-3BBAC225C591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E7D01CD-3689-4DB0-8262-1D0BB67EF0D7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0410509-F9BB-4FD8-8AF3-BA9FF35DFBCC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5D755C3-C278-4849-B0DF-5CAE1D240AEA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9BE818B-3446-4151-A89E-99AD9A39D598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A9BA731-0F65-45B3-BC07-661EFC6E18A8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A723A64-78EA-4416-96EF-8EB0FF0ABBD5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0C7BD69-18BA-4A4E-8263-DA8CBEC6A37D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5A01A88-8BCF-414F-9BAF-32D7FA4CAE67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BB3AB80-C65A-46D6-BE58-0CD3901689F5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F8F117-EC27-4B07-9835-F4094F1D01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E8E6D-D395-4A1F-ABF4-B7AD52780A46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2B59A5-F0A8-47D2-B649-1C588C357C0F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BEA501-7AEF-49FF-990F-81975B359363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43229A-065E-435F-A217-FE81E062B265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0EA383-15AF-4D2A-90BE-EF2525FFD5B0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B7C5FF-21A1-4183-9225-A7F4AE387BD6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D5AEB6-18E6-4113-A401-675D89B22BFF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25BAB9-1EA3-4752-BF8C-F0A87B2773CF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1FEEF2-ED6C-4423-8CA2-1723C3149A6C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1BB637-331C-490D-8B80-104F318CBD16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4DAE56-0E24-4CCC-9630-7D54B08107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A3ED4-FBA8-4E3E-85AD-F5DC915842FB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7408B4-4590-416E-B8B5-53CFD10A9A42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B2DBD89-1A6E-4C1F-A4BA-A256186F1C41}" type="slidenum">
              <a:t>&lt;#&gt;</a:t>
            </a:fld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CA8E461-2832-478B-8DC6-117FA4838CB2}" type="slidenum">
              <a:t>&lt;#&gt;</a:t>
            </a:fld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721C4A6-B706-4E67-BFA3-1CE7287D380C}" type="slidenum">
              <a:t>&lt;#&gt;</a:t>
            </a:fld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6A11EC2-5503-4BC5-B1F0-F69BBC57C65B}" type="slidenum">
              <a:t>&lt;#&gt;</a:t>
            </a:fld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F52A9BA-75C8-4CB9-B620-5E1B17077901}" type="slidenum">
              <a:t>&lt;#&gt;</a:t>
            </a:fld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7B57C96-58E2-4603-8024-B484D6CDD136}" type="slidenum">
              <a:t>&lt;#&gt;</a:t>
            </a:fld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8C665EE-79B4-4D05-BCA0-848C202C8C75}" type="slidenum">
              <a:t>&lt;#&gt;</a:t>
            </a:fld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235BBBA-B3CD-4AAA-93D1-5A42C3A9C8FC}" type="slidenum">
              <a:t>&lt;#&gt;</a:t>
            </a:fld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27E3F2D-74CE-4C67-9F03-4ABA54FB200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FD985-BA7B-44A8-B5E9-72C1BFBB2F3E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BAA176E-9299-4A8D-89FA-AC9F8BABF94A}" type="slidenum">
              <a:t>&lt;#&gt;</a:t>
            </a:fld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173499D-6864-4F81-AA7F-FA5B2F68CF1B}" type="slidenum">
              <a:t>&lt;#&gt;</a:t>
            </a:fld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9B30E29-6D65-41E5-81B2-2E831BAE69ED}" type="slidenum">
              <a:t>&lt;#&gt;</a:t>
            </a:fld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808C64E-3C27-46F7-A52E-753BF1A1E315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BE9445-E6D8-4644-B3F6-2EC8AFA3BCE3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A6C7A97-B6B3-4C29-BF57-4C97E26E3BCE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182F966-E5CF-4E7F-A01F-615F12F42CC4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35C6866-96D7-449A-8255-598CF6EAA2B0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7EB2C20-12C4-4028-B70A-F79D33B7FCD5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9ED468C-2617-461C-AD75-DD88F45602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4CFB1-0AC6-4B89-9119-7BF27816046C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06F6031-9973-4AE7-9C41-88776B1E712A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6DD4B3-19D3-4D14-87D0-5432848CCC59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C300C1-A7AD-464F-B55E-93E29352E44E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BDB230D-8F86-4D83-B8A7-99038A9F8940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78F19BA-932A-4039-B53B-963833DAEE64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755CFA-B289-472F-BD1A-36DB5F2BF393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9D2361-4779-4B6F-8507-F02D02C4C96F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2435B4-DC7C-4C14-AB1A-57D718B7650D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6242C2-1360-4981-A7CF-0ACFC4FC399D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92B546-4356-4835-89C6-384E774030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6FFD3-D374-4601-8C02-5CF6ED0BCF98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8C3392-7D97-4EEF-BE41-FD9E6EF7A07E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6F01F0-AB26-4BF8-8C40-5093E80AEF6B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AA8D0A-FF2D-45AD-9F0B-9D4A0A513871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6DDFFF-A609-413F-AE61-D53CFB62C00D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B5D051-175D-4626-AD97-5F8C444163AC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850599-EE56-425F-9570-857A859B267C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3F09FC-9062-415D-A977-E268C448E09F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8BF8E8-9358-4CB7-894D-CFAB549229E8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41C55A-CA6E-4C82-8BFD-8237501AA08D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96AAAA-C896-465A-90CC-6F5E5ACD29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3705A-4CE2-4AC5-B52F-551E1F90F2C8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4DC7DCC-12AB-4AE9-BEF3-4C830D85A663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21F72AB-CD1F-4113-98F3-07D3C43E2E65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AD77D8D-AAFD-4847-BCD7-3C777E8C7F12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04EC75B-11E9-4C4A-A902-7ECA4FCD1B26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75F7B0-4787-4DDD-8BD4-94394E89C85F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98C61C9-7E60-417D-9B96-EAAAB8864A39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D33B73B-B458-4E01-A106-1F22D9FA1B2B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660FAC2-927F-4C23-AE59-6FD00131FE31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B63EBDF-442A-46B5-823B-13EC1A1D89A6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7C1D538-3C81-4F44-8B24-2D2360F358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90C09-EAD6-4167-A547-DE6AFD11BE9B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08AB7EA-905E-4E91-8B1D-67A2E489E702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4407329-A31D-47C4-AAA5-CEF0CA109813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CBCB58F-8A86-4226-9889-7BD2DE9CFAF3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079F4F6-44AB-4DEB-84BB-2E827F38DB17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41685AE-6DCE-4ACC-B0D2-8C0295F5B38C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DAE10CC-35B3-49BD-A20F-DA817CE37FFA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F93F73D-4A53-4C31-9E41-C6A5C6312553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8B43163-0AE4-40A8-B0C7-C220FE21B48D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D86C771-43AF-4B23-9C27-C009C8ECC909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C5D398C-6CA3-47FA-B0E7-84D002E4C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CB9A-F3D5-4CC2-813A-4D2AAEE28B7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11467-C5DD-41CB-87FB-C77E25EF3477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18B29CE-A038-4654-9BC0-F99CDCD0CB27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402B66-4299-447D-9933-B328A3B7D27F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596CF9-B67B-4F6A-90EE-0854E72A1A27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F2F8C3-B0A0-45B7-98E2-4CA6FA47CC15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9378FF-2140-4AAA-8BD8-AC5FD2FCD1C1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1D68FE-0556-4EEE-B03A-685831DB00DB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49D355-6060-4861-9E43-3034C7D56C89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E45647-C39A-4C3A-982D-9509684C3786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260D9A-2001-4C79-8A42-759DB5CDB772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924E74-C07D-4D02-BB83-5DE79D0012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99D45-666F-4783-90EA-8C051B2EA751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9F534F-CC35-4383-853B-D2EF66E8F275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B644CD-88FE-4410-9C03-43B3B82F14B4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8B2D7B-12C1-4A0F-8D02-237642895254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9A233A3-CA32-465D-9C30-84A05B8EF636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A2E8C4E-7965-4B0B-BD07-B80AD40F3EED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A08249F-F19A-4964-9FAA-C62AB75D91A4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6BA70F0-D8F3-45F8-A391-152A242A3048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7F8BF17-B885-4599-A471-484C7D1CC0B8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B61C948-BE44-4D8F-A424-EC91ABB566ED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690DCB3-5ECF-44C8-804C-C882A0DAA5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B609E-6B0F-424B-8826-DB0F1E661329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21563EB-A85F-44E4-B13B-DFE09D431938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38AA620-ECA4-40B1-B8B3-3212A9907698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0DB136-C5FA-4E44-A758-5A6F5D7B3CC6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BA9E204-42A1-4DB0-867D-E346284D3E03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5A26EB7-36F4-40D6-943E-B2CE944D964C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2BF2EEB-97EA-4053-ADD2-BFC33433446E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216FE2F-2B5B-4432-8BD0-67BEB55CD5C7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3EC693D-7E75-4B34-8947-2CD0178B8C8B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CBBBC0F-0E4A-443E-8CBA-B2CB225CD7F4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70DC1AA-1DC6-49AE-8423-AF04A1EA93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B3770-7615-46F5-BBE2-5A2C53DC3FFD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A959A9A-A286-4B65-A71A-C58B37900508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D19B3E-4AD9-4878-9AF6-66F4B9F4397B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E8AB66-8838-464A-8F21-B4CDAD3DDB9F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746F8B0-FF4F-436E-88D2-7FF8B51AEEA6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2A66678-5375-4DDA-BD06-52ACB40BAEE9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A05359A-38DB-4BFD-8647-DB1714376062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53F0F2-BE24-4362-9FBA-63041CB00D35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F3F72E-CD15-497C-B3EA-50458C67FA41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5FCE90-FDC2-44E0-8732-12D0C5475933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EE70F3-7194-490A-8BEE-87C3FF7C31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5E2B5-3AAE-48D0-8573-882D764917DA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5C4DA0-6085-44EE-B34B-BB3B3BAE89E7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6CCB06-EECA-48E5-A533-CD8A6B04CC25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6921CF-131D-4DEC-90FD-1510DE9B7A68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0BB093-0598-4B16-A142-9158182859C0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5DA5E4-6EE3-451C-9C77-A5486D9DE31A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3B66CD-3B18-4FB8-9AD2-19A19904ECC3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C6CD57-9FD5-4513-B920-494BD059E253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0BBC09-3EAF-4EC3-99CD-EF8B6CEF2308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A12829-42E0-438F-B67C-2EF6D4714E9D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274F593-7EA8-464F-ACE1-EED0FE3008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E94B4-5CDE-4B23-9471-20E39A24E0D3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465006-58F7-4357-9111-67A1984ED881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57C4A2F-40BD-413B-BDA3-61E6EBFA1541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27110FB-1801-436F-AF73-1D9275B348BD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8AC1D8-2639-4187-8B5F-AA8BFE8CAEEC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57853DA-C217-451A-B457-5F6BFF3E9353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FB3E2F-4BBF-43A1-98EE-14C4683646F1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5A4C90E-6B75-4544-BB92-146307D03BC0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B0383E7-4FB0-49C5-8DE3-55FED5C3C5AA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DC683EE-90D7-46FA-BFCC-6A8A2E0D2D3E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B6A8AAC-7327-4CD8-8CE9-8D30E7EEEB6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C55BD-9839-4DB8-A48C-D42D0AFA4172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3873F8D-8A2C-449D-A9F1-5A04B788987F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242665F-712C-48CC-B801-6EF2CE59EBEA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EA331F0-A0A6-4F69-9361-E3C92A46DC4C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8618530-BB87-4E19-B954-422B53AE8890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2A6112C-D502-499E-925A-744A45620C36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5BA9799-3A25-4E8C-87BE-7FEAFBE544DB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A307B5-C4DA-48C7-B966-8E9E1104C4B2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6DE6377-0B83-46A6-A434-6AC02ED6F2C4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402EF33-8A28-43B6-827F-A5CD636F06EC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1ACEE84-2461-4CB7-8DB0-49216499B49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F86E0-3B99-4B5D-9544-23D5A85C6218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8F6AA6C-CCC0-4E78-A77B-476D03B81912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43D1BAD-AF53-448C-A9AD-281BE7B4A90B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9F56E9B-B6EA-4D61-92D2-AFCE604004FD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10DC70-EA2B-40F9-8B6B-5DB1DB202B1C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B068D0-5466-4EA0-BC10-82865E64A3A4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98F0DE-44B1-4A3B-85F3-B144E3BB3BBA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372050-FD18-49FC-B91C-249DECAB3AF7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B40C7D-2D48-481C-8B27-A4E0BC1D4ED9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70586A-178D-4FE2-B2AA-00E3AE48DEB8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0F1E5A-B928-4230-B97A-52D1C40418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21353-19F0-442C-ABA6-763ECD8D0763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2D1DBB-D1A1-4254-881D-60023C376AA3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7948F8-295B-4A44-9E3C-5B3C465B140C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066EF2-E05C-4356-8D1C-6DE67703D4C8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8ACF22-4010-4725-8404-97A012AEC80C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C2F611-BF49-4F90-8C03-2114F0557B82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48B40B8-D2B4-446A-9BCF-8D2FA010E7A4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8EC7715-C1BB-4D91-8EDC-1FB83F126A36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C277854-E400-4C6D-B64E-7F0C4538EF4E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ADFCA77-3FCD-4BFC-B1C9-43C2018E4DA2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EC6D986-51A8-474B-BA01-2D08C83AD8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12F21-1E67-40EA-BE15-0A88D6067431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2E1C5BB-D14F-40A7-9F5A-4F05EB1425E6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CB7ACCC-ADC7-4203-991A-8B2709D4E88D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3149DE3-0B28-4F66-8990-B03BF0F80181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7751A23-2123-462D-9041-A93F2EAF59AD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D751AD-C60F-4F0A-9F06-6D067AA0567F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7133238-19EE-494B-A5C1-C90A22096AD3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3C38B3D-3FAF-4DF1-A4AD-6B7925631151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FF0CEEB-78E3-4C08-81E0-96F1DB15B3E8}" type="slidenum">
              <a:t>&lt;#&gt;</a:t>
            </a:fld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E04887-B665-49D3-8349-9001B5D0B71B}" type="slidenum">
              <a:t>&lt;#&gt;</a:t>
            </a:fld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3A69E1B-61D3-4AE7-B357-584CE4CF4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A283-B81F-4298-BF03-A49054BC7EC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83A31-7709-4BC1-8DE4-0E83DFB2E4D9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A695C34-7680-41E6-BB04-7157269CB82A}" type="slidenum">
              <a:t>&lt;#&gt;</a:t>
            </a:fld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6F9A5DB-4FC3-440F-9FE0-A902FCBA4491}" type="slidenum">
              <a:t>&lt;#&gt;</a:t>
            </a:fld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CD9DD20-3ED8-4F38-8322-D2AEBA42E6E6}" type="slidenum">
              <a:t>&lt;#&gt;</a:t>
            </a:fld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6E66AA-87B8-42C3-8D34-1A43DED48630}" type="slidenum">
              <a:t>&lt;#&gt;</a:t>
            </a:fld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2F3E7EE-1CC5-413D-A496-90948C48DC7C}" type="slidenum">
              <a:t>&lt;#&gt;</a:t>
            </a:fld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00DBBF5-B3D7-4D02-85B7-71E1EB5C4FBE}" type="slidenum">
              <a:t>&lt;#&gt;</a:t>
            </a:fld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9460B4-EC5A-4288-AD43-B1AF6484C5C1}" type="slidenum">
              <a:t>&lt;#&gt;</a:t>
            </a:fld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BFD8492-53A6-4A7C-93D9-3650CAD3D8D9}" type="slidenum">
              <a:t>&lt;#&gt;</a:t>
            </a:fld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BA6C0FD-7CD2-42B1-83D5-292DA52F4492}" type="slidenum">
              <a:t>&lt;#&gt;</a:t>
            </a:fld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2A5366-D6B9-4423-BD2D-233D8BB490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52B74-7065-49A4-AFF7-B94FFBDBF6F9}" type="slidenum">
              <a:t>&lt;#&gt;</a:t>
            </a:fld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407D27-1966-444C-8B05-8C2BF0C56A58}" type="slidenum">
              <a:t>&lt;#&gt;</a:t>
            </a:fld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36C9A8-DD17-42C1-9BF2-4E6F82BF5D88}" type="slidenum">
              <a:t>&lt;#&gt;</a:t>
            </a:fld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0EADED-08BB-4F60-AB1E-FC768F7C7DEC}" type="slidenum">
              <a:t>&lt;#&gt;</a:t>
            </a:fld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12CB11-D636-4048-A861-1C86047513EA}" type="slidenum">
              <a:t>&lt;#&gt;</a:t>
            </a:fld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7DD280-1CD8-465D-9747-4150C4157839}" type="slidenum">
              <a:t>&lt;#&gt;</a:t>
            </a:fld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5BBAA5-60EC-4B8D-9194-683A3AAB97F3}" type="slidenum">
              <a:t>&lt;#&gt;</a:t>
            </a:fld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84E0A8-67C8-4B28-A91A-FD7D97542B11}" type="slidenum">
              <a:t>&lt;#&gt;</a:t>
            </a:fld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3791B9-0691-476C-8A56-1F6EC1AA7E89}" type="slidenum">
              <a:t>&lt;#&gt;</a:t>
            </a:fld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21BBBA-B4A1-4FE8-B9B8-179DD15189C0}" type="slidenum">
              <a:t>&lt;#&gt;</a:t>
            </a:fld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E73A98-8FC7-4225-BCDB-55C6B83972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891E2-B51F-4523-8E0D-233224127906}" type="slidenum">
              <a:t>&lt;#&gt;</a:t>
            </a:fld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879242-E088-442E-BC17-F2455414D4F8}" type="slidenum">
              <a:t>&lt;#&gt;</a:t>
            </a:fld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FE6A8AC-4064-4F0E-80D5-FEA4870875D8}" type="slidenum">
              <a:t>&lt;#&gt;</a:t>
            </a:fld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42CDCE0-0EFF-4022-B687-56983970FEBB}" type="slidenum">
              <a:t>&lt;#&gt;</a:t>
            </a:fld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8E79E1D-821A-4345-9077-7C4EC9598D2E}" type="slidenum">
              <a:t>&lt;#&gt;</a:t>
            </a:fld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4140B21-9636-4511-8FE9-EDE065D38E77}" type="slidenum">
              <a:t>&lt;#&gt;</a:t>
            </a:fld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5320FFD-CC09-48E9-8082-FBC25465BF3E}" type="slidenum">
              <a:t>&lt;#&gt;</a:t>
            </a:fld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39D95C3-2DBD-4C1B-9FCF-204315AEEB45}" type="slidenum">
              <a:t>&lt;#&gt;</a:t>
            </a:fld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19BF320-0851-4414-AF91-F3A29A326702}" type="slidenum">
              <a:t>&lt;#&gt;</a:t>
            </a:fld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55B4C8A-1515-48BA-B824-E5876E4E8339}" type="slidenum">
              <a:t>&lt;#&gt;</a:t>
            </a:fld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8FFD627-5936-4055-BEB8-7406B520D9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4CBD-03AC-4486-BD7D-6AFCBBB8C41A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BF91E4-5B99-44FA-8164-33B1750AD231}" type="slidenum">
              <a:t>&lt;#&gt;</a:t>
            </a:fld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3BD14F7-3283-4FAF-A9F9-8DB1A9BAC131}" type="slidenum">
              <a:t>&lt;#&gt;</a:t>
            </a:fld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74F4AFF-0D5F-4870-907D-FD008EB163D7}" type="slidenum">
              <a:t>&lt;#&gt;</a:t>
            </a:fld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D9BA2DC-66DA-4A2F-9972-159340F77FC2}" type="slidenum">
              <a:t>&lt;#&gt;</a:t>
            </a:fld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2BA9893-C5C1-42B7-9132-EB5BB7A34636}" type="slidenum">
              <a:t>&lt;#&gt;</a:t>
            </a:fld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B878C1E-F3A0-4531-8AAE-7D96F1B221D5}" type="slidenum">
              <a:t>&lt;#&gt;</a:t>
            </a:fld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4460B49-C583-4449-B56E-727ADF2A3EDE}" type="slidenum">
              <a:t>&lt;#&gt;</a:t>
            </a:fld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EEBC858-BFC9-4B29-84EC-1F1C5DF1847D}" type="slidenum">
              <a:t>&lt;#&gt;</a:t>
            </a:fld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E9E05E4-7CDA-420D-BD37-76A47F2CF785}" type="slidenum">
              <a:t>&lt;#&gt;</a:t>
            </a:fld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BC4BB51-7991-4791-8847-5811484F27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09C5-DE1B-4857-AA79-B78B89EE7E01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299738A-FBEB-4BA5-9127-665EADD2CB41}" type="slidenum">
              <a:t>&lt;#&gt;</a:t>
            </a:fld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6C10D81-F5BC-4BD9-A5EA-1592C5214E95}" type="slidenum">
              <a:t>&lt;#&gt;</a:t>
            </a:fld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7F69D5E-EE8C-4A7C-8BA9-3429321C0BA7}" type="slidenum">
              <a:t>&lt;#&gt;</a:t>
            </a:fld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1F5762F-3E70-4F47-8ABD-A26F8B7E31C9}" type="slidenum">
              <a:t>&lt;#&gt;</a:t>
            </a:fld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6F7200A-8267-4250-9EA2-0EE96586E4B2}" type="slidenum">
              <a:t>&lt;#&gt;</a:t>
            </a:fld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389B9D-839A-40DE-8203-E8C7141BD5DA}" type="slidenum">
              <a:t>&lt;#&gt;</a:t>
            </a:fld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57FCE7-D499-4B1A-9A1F-969D323FC16B}" type="slidenum">
              <a:t>&lt;#&gt;</a:t>
            </a:fld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11B042-23A5-4E8B-8356-0AC63D82CC41}" type="slidenum">
              <a:t>&lt;#&gt;</a:t>
            </a:fld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D8BDE0-CDBE-45EB-A949-42F9F8988F9D}" type="slidenum">
              <a:t>&lt;#&gt;</a:t>
            </a:fld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E02667-66D5-49C6-B77E-5D9F399D78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6025-9B05-4105-BA18-1944D83C5228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C618F4-3485-449D-90C5-94BE92F0890D}" type="slidenum">
              <a:t>&lt;#&gt;</a:t>
            </a:fld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C16463-8F73-49A2-BA22-72FC3CFA5EC5}" type="slidenum">
              <a:t>&lt;#&gt;</a:t>
            </a:fld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2985CD-87F9-408D-A692-F0DEB91F1140}" type="slidenum">
              <a:t>&lt;#&gt;</a:t>
            </a:fld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F906D4-14B0-48A5-A969-4F9287C6FA51}" type="slidenum">
              <a:t>&lt;#&gt;</a:t>
            </a:fld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68DDBF-2BD9-409B-9252-7A03A0C86436}" type="slidenum">
              <a:t>&lt;#&gt;</a:t>
            </a:fld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663DBD-37E2-4D3A-A066-BDFEC0997DD2}" type="slidenum">
              <a:t>&lt;#&gt;</a:t>
            </a:fld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6CDF1F-E9ED-4A4F-B112-186CCE97D3E6}" type="slidenum">
              <a:t>&lt;#&gt;</a:t>
            </a:fld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5ADC316-49DD-48E4-BA0E-50045EEC9D06}" type="slidenum">
              <a:t>&lt;#&gt;</a:t>
            </a:fld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2CD4C7E-D6F3-4A6F-AE4B-935B1C32D197}" type="slidenum">
              <a:t>&lt;#&gt;</a:t>
            </a:fld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2031766-C1AD-4FA7-9D92-9CDB781557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865D-B1F0-4B5A-82B7-EFA6659C7BFC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F99EC2C-6475-433E-8B99-AFAEDE0C933B}" type="slidenum">
              <a:t>&lt;#&gt;</a:t>
            </a:fld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E18F9B6-202E-4AE7-8209-812885AE50CE}" type="slidenum">
              <a:t>&lt;#&gt;</a:t>
            </a:fld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5BABF18-4992-4C4A-BB50-686B39C1F33C}" type="slidenum">
              <a:t>&lt;#&gt;</a:t>
            </a:fld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54644C6-72F7-4DE8-937E-E41C187295B6}" type="slidenum">
              <a:t>&lt;#&gt;</a:t>
            </a:fld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C23C3DC-6FA5-4A17-910A-58835A2DEDFC}" type="slidenum">
              <a:t>&lt;#&gt;</a:t>
            </a:fld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C84F846-920D-4245-A4D7-5B54334D3268}" type="slidenum">
              <a:t>&lt;#&gt;</a:t>
            </a:fld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32F4B68-0112-4E04-88CF-2DCEBDF81B72}" type="slidenum">
              <a:t>&lt;#&gt;</a:t>
            </a:fld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68D57C6-9222-4871-92F4-E52BC49B6ABE}" type="slidenum">
              <a:t>&lt;#&gt;</a:t>
            </a:fld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6619774-CE65-463E-B8D1-B562EDFC062E}" type="slidenum">
              <a:t>&lt;#&gt;</a:t>
            </a:fld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D0EFE5C-29B1-42F3-98F0-E158A808C9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52A7-D1C7-4B48-ABBD-C3AF7D0D35A2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50031E5-8BCA-4E4E-B3D3-5F559770CA61}" type="slidenum">
              <a:t>&lt;#&gt;</a:t>
            </a:fld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0A2088F-90E1-4D11-ABEB-AB7DF281DAB4}" type="slidenum">
              <a:t>&lt;#&gt;</a:t>
            </a:fld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A38EC99-8A8A-45BB-95C8-88682DBB5539}" type="slidenum">
              <a:t>&lt;#&gt;</a:t>
            </a:fld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AC4D4C-5176-4C1B-94E0-8E16E6367078}" type="slidenum">
              <a:t>&lt;#&gt;</a:t>
            </a:fld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C4B9D53-D022-482E-A13F-B64C52267BDD}" type="slidenum">
              <a:t>&lt;#&gt;</a:t>
            </a:fld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BD17E4A-0305-4836-A1EE-4D586F49C297}" type="slidenum">
              <a:t>&lt;#&gt;</a:t>
            </a:fld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2D7C5B-B880-4DCF-9CC1-A0618FAB82C8}" type="slidenum">
              <a:t>&lt;#&gt;</a:t>
            </a:fld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D73A5A4-D30A-4E10-99A1-9C09E080169E}" type="slidenum">
              <a:t>&lt;#&gt;</a:t>
            </a:fld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F4D130C-79C8-4B58-968A-36CE049FFD16}" type="slidenum">
              <a:t>&lt;#&gt;</a:t>
            </a:fld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B0FC16-7896-4202-A5E4-20B2C04B28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CD1F-1030-4F9F-BEC0-3BD7B68423DA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0D967D0-6CBD-41BB-B91F-83EFE553CC6B}" type="slidenum">
              <a:t>&lt;#&gt;</a:t>
            </a:fld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48DC98-5053-4464-836E-AAF92C926AE9}" type="slidenum">
              <a:t>&lt;#&gt;</a:t>
            </a:fld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923063-25FA-41AC-B3D9-1258D34527A3}" type="slidenum">
              <a:t>&lt;#&gt;</a:t>
            </a:fld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84A05C-66F6-4FAD-930B-607D512AC761}" type="slidenum">
              <a:t>&lt;#&gt;</a:t>
            </a:fld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D5D845-3CEC-4312-9671-6428D3BF8741}" type="slidenum">
              <a:t>&lt;#&gt;</a:t>
            </a:fld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C3E514-04CC-4D61-A0FE-DD04AA46389C}" type="slidenum">
              <a:t>&lt;#&gt;</a:t>
            </a:fld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1988EF-2EB0-45B3-AC15-19F32B9BEA66}" type="slidenum">
              <a:t>&lt;#&gt;</a:t>
            </a:fld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8667BF-66F8-450E-9ED8-4A2A93D2A906}" type="slidenum">
              <a:t>&lt;#&gt;</a:t>
            </a:fld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A16078-D62E-4C25-99D8-DFDBE818A91C}" type="slidenum">
              <a:t>&lt;#&gt;</a:t>
            </a:fld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FEE8DB-BA12-415C-A600-990DD24431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0BF8-8E9F-4AA2-A09E-F6B990F75AD7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03249C-5C62-43AA-BE09-88AB9CDAADAA}" type="slidenum">
              <a:t>&lt;#&gt;</a:t>
            </a:fld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DFE33E-FE87-4C46-9B7B-2E51DAB9019F}" type="slidenum">
              <a:t>&lt;#&gt;</a:t>
            </a:fld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84BD7E-3413-4F0E-B037-A6BC920C7AE2}" type="slidenum">
              <a:t>&lt;#&gt;</a:t>
            </a:fld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DF665E7-9960-4816-A532-602FC2E3BB05}" type="slidenum">
              <a:t>&lt;#&gt;</a:t>
            </a:fld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D55D664-32BF-4B0A-82A9-D99C885A873B}" type="slidenum">
              <a:t>&lt;#&gt;</a:t>
            </a:fld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4221EE6-58CA-4D98-BD56-C578EB1B0E05}" type="slidenum">
              <a:t>&lt;#&gt;</a:t>
            </a:fld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50F6D84-73EF-41F6-9AC1-CE177D1583A3}" type="slidenum">
              <a:t>&lt;#&gt;</a:t>
            </a:fld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0397A61-76D4-4A42-84B0-A7FEDE1A590E}" type="slidenum">
              <a:t>&lt;#&gt;</a:t>
            </a:fld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56E503B-6A8B-412D-A550-5B6F0593CE6E}" type="slidenum">
              <a:t>&lt;#&gt;</a:t>
            </a:fld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72F47DD-2B6A-4EC3-8215-40ACF8ED4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8121-E6CE-402C-8FFC-3A98631AA9D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B19D-8907-4D53-931A-31CB15EEFF32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70ADC92-77DD-4144-BFE0-34033B182EAF}" type="slidenum">
              <a:t>&lt;#&gt;</a:t>
            </a:fld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8F452B4-A96E-49BC-865C-12DE962C0B71}" type="slidenum">
              <a:t>&lt;#&gt;</a:t>
            </a:fld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590AC04-050E-497C-AC27-7D63E7E07CFE}" type="slidenum">
              <a:t>&lt;#&gt;</a:t>
            </a:fld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4A3A6A9-1466-4D1E-ACA6-612825A575E2}" type="slidenum">
              <a:t>&lt;#&gt;</a:t>
            </a:fld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023341B-903C-4287-9C2D-0BCB1ECA8CD3}" type="slidenum">
              <a:t>&lt;#&gt;</a:t>
            </a:fld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1B2F0B3-166C-42F5-9FB2-B4FA89C9169F}" type="slidenum">
              <a:t>&lt;#&gt;</a:t>
            </a:fld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D020210-1B57-4B67-9D61-FBF856F9F7E9}" type="slidenum">
              <a:t>&lt;#&gt;</a:t>
            </a:fld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2FC4C62-521B-405C-9526-0D79CA6B0898}" type="slidenum">
              <a:t>&lt;#&gt;</a:t>
            </a:fld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C710901-368C-4DD5-9BCD-2E46D94F5F0E}" type="slidenum">
              <a:t>&lt;#&gt;</a:t>
            </a:fld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F47156C-281E-49BD-9D0F-86A8A960E3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115B-6ACF-41F8-8902-F54521E4B9AF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6C6A58C-2CC1-40BA-A5EB-BC3DA58C8A46}" type="slidenum">
              <a:t>&lt;#&gt;</a:t>
            </a:fld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88600C0-2EEB-4017-8D8E-8C23DA8B0D8E}" type="slidenum">
              <a:t>&lt;#&gt;</a:t>
            </a:fld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C325674-EDEF-4F04-87EF-6C04418F1685}" type="slidenum">
              <a:t>&lt;#&gt;</a:t>
            </a:fld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E044D3F-8F47-4E26-9B1A-4F124C2AEA8F}" type="slidenum">
              <a:t>&lt;#&gt;</a:t>
            </a:fld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C34EAC0-7339-447A-8D6B-202F2CD31E5E}" type="slidenum">
              <a:t>&lt;#&gt;</a:t>
            </a:fld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395A514-9996-46B7-AFA2-9D3F72B8DFF1}" type="slidenum">
              <a:t>&lt;#&gt;</a:t>
            </a:fld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D8715B2-1E29-466B-B86F-2F7084AF3ABF}" type="slidenum">
              <a:t>&lt;#&gt;</a:t>
            </a:fld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A8E33D-9BAD-4401-979D-6EE427466F92}" type="slidenum">
              <a:t>&lt;#&gt;</a:t>
            </a:fld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F915BD-19F8-47CA-8B30-0918770A6EC7}" type="slidenum">
              <a:t>&lt;#&gt;</a:t>
            </a:fld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A8F8A4-B562-44D9-8DE0-7B7AE9DC1A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27A1-74D8-44BE-9EAB-CEFAFE1545F7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7793DE-339A-4166-AA5A-DEAECB15C849}" type="slidenum">
              <a:t>&lt;#&gt;</a:t>
            </a:fld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198A23-6599-4DC6-948C-4DB54DC1E777}" type="slidenum">
              <a:t>&lt;#&gt;</a:t>
            </a:fld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BC97D0-7987-41B0-BCDC-67100094EEB7}" type="slidenum">
              <a:t>&lt;#&gt;</a:t>
            </a:fld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6CE3F2-6800-4368-A295-FB315560B569}" type="slidenum">
              <a:t>&lt;#&gt;</a:t>
            </a:fld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55E4FF-2422-486B-907D-1D76D63371B9}" type="slidenum">
              <a:t>&lt;#&gt;</a:t>
            </a:fld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FA100C-57BD-47E0-A56D-EE92BDC6E626}" type="slidenum">
              <a:t>&lt;#&gt;</a:t>
            </a:fld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67CA62-5DB9-4A3F-94FE-C39C2CB7CE77}" type="slidenum">
              <a:t>&lt;#&gt;</a:t>
            </a:fld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234551-FB56-424B-B51B-DCCB5846F350}" type="slidenum">
              <a:t>&lt;#&gt;</a:t>
            </a:fld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C3E64B-07E1-40A5-A35A-C4CA22340027}" type="slidenum">
              <a:t>&lt;#&gt;</a:t>
            </a:fld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C7EAF56-6045-4C40-A6FE-38E42C775AE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FD9CE-D0D0-4DD6-8AF5-50444F51DC2B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6FCBB70-240C-4DF3-A8F8-791C77917DD7}" type="slidenum">
              <a:t>&lt;#&gt;</a:t>
            </a:fld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A73C6CD-1B9A-4E87-A86C-4AA91B85B7D9}" type="slidenum">
              <a:t>&lt;#&gt;</a:t>
            </a:fld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AA5D34D-0249-49AE-8582-C8028A0230BD}" type="slidenum">
              <a:t>&lt;#&gt;</a:t>
            </a:fld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B425830-B3FC-4439-AEC1-F190A5026646}" type="slidenum">
              <a:t>&lt;#&gt;</a:t>
            </a:fld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132C30F-9D5C-4AC9-87DA-791D1650D78F}" type="slidenum">
              <a:t>&lt;#&gt;</a:t>
            </a:fld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B463392-F549-45FE-BA48-3693635E0024}" type="slidenum">
              <a:t>&lt;#&gt;</a:t>
            </a:fld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D659780-58B0-4563-87B4-488DDDCED36E}" type="slidenum">
              <a:t>&lt;#&gt;</a:t>
            </a:fld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80E549C-890B-4454-A0BF-B553CF33921C}" type="slidenum">
              <a:t>&lt;#&gt;</a:t>
            </a:fld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B8B1FD7-464D-4874-9AAC-F65AB74BED1A}" type="slidenum">
              <a:t>&lt;#&gt;</a:t>
            </a:fld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1DFC83D-3F81-4BC4-8B00-D6DE90ED91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7B1F-5D9F-4B3C-965A-54663B4CD997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03B2F1-7198-4A61-860F-96F9F86FFE93}" type="slidenum">
              <a:t>&lt;#&gt;</a:t>
            </a:fld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95B577C-DA0E-436E-BD66-C3281C1E3B9B}" type="slidenum">
              <a:t>&lt;#&gt;</a:t>
            </a:fld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A8E113F-BAFB-4A27-9674-302CCC0667C7}" type="slidenum">
              <a:t>&lt;#&gt;</a:t>
            </a:fld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5B63718-1D67-490A-B5D4-0D0F1579965A}" type="slidenum">
              <a:t>&lt;#&gt;</a:t>
            </a:fld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00E6561-3E1F-41DF-A079-94BF123D6B8E}" type="slidenum">
              <a:t>&lt;#&gt;</a:t>
            </a:fld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7DD3B11-7032-46B5-8077-011269E8EFC0}" type="slidenum">
              <a:t>&lt;#&gt;</a:t>
            </a:fld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2338327-7396-4C7F-8C01-7A76F3A6EC45}" type="slidenum">
              <a:t>&lt;#&gt;</a:t>
            </a:fld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4933988-E83E-4055-A92E-51F47B7B06FE}" type="slidenum">
              <a:t>&lt;#&gt;</a:t>
            </a:fld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85D6CF7-95BB-4A4E-BA96-134B4F4676DC}" type="slidenum">
              <a:t>&lt;#&gt;</a:t>
            </a:fld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B9F241D-99AE-4EB3-9F4D-E784CD03A86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45C06-95C2-4F1D-AE15-4AB7917E9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02F21F7-7F30-42B8-B678-951EB1A000E2}" type="slidenum">
              <a:t>&lt;#&gt;</a:t>
            </a:fld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4BFFE73-FB93-481F-8515-9676C0163E59}" type="slidenum">
              <a:t>&lt;#&gt;</a:t>
            </a:fld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5901FF0-8584-44FB-AD63-BD381384A49F}" type="slidenum">
              <a:t>&lt;#&gt;</a:t>
            </a:fld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3BD261-C41E-4EE7-B5D8-AFDF76BF6EC3}" type="slidenum">
              <a:t>&lt;#&gt;</a:t>
            </a:fld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B7ECCC-5609-4629-B559-27A2E2850395}" type="slidenum">
              <a:t>&lt;#&gt;</a:t>
            </a:fld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07974A-2115-442D-BCFE-7E9DA69FE059}" type="slidenum">
              <a:t>&lt;#&gt;</a:t>
            </a:fld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B6900A-D00A-4E3C-9AD5-238B560FC6F6}" type="slidenum">
              <a:t>&lt;#&gt;</a:t>
            </a:fld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5C0408-8712-40FB-9F42-895D045D66F8}" type="slidenum">
              <a:t>&lt;#&gt;</a:t>
            </a:fld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358C93-C75B-4671-8368-3CCAC8915785}" type="slidenum">
              <a:t>&lt;#&gt;</a:t>
            </a:fld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DE8255-0AB5-4474-BE80-4A9A1B9DDF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6EBED-11D7-4F81-8599-D614E469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F3C3AD-86C3-404B-B8D4-D981A9C89EEE}" type="slidenum">
              <a:t>&lt;#&gt;</a:t>
            </a:fld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A0F258-49A5-41CC-93EC-B8D128A8C468}" type="slidenum">
              <a:t>&lt;#&gt;</a:t>
            </a:fld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6B9131-85D6-430A-AFE5-AAA1C86A3E75}" type="slidenum">
              <a:t>&lt;#&gt;</a:t>
            </a:fld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42234C-8FF0-4F91-B729-01059C76935B}" type="slidenum">
              <a:t>&lt;#&gt;</a:t>
            </a:fld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6F4A25-D72B-4844-9058-C19FA87CBC63}" type="slidenum">
              <a:t>&lt;#&gt;</a:t>
            </a:fld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7E9252F-09A9-45B0-B195-09624B8CEA67}" type="slidenum">
              <a:t>&lt;#&gt;</a:t>
            </a:fld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F21BFE4-03B7-48A9-B93E-7BC5B7F52DCF}" type="slidenum">
              <a:t>&lt;#&gt;</a:t>
            </a:fld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0D83ED1-F13E-4CC4-B3BB-BACE25DB73FB}" type="slidenum">
              <a:t>&lt;#&gt;</a:t>
            </a:fld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7412972-8E33-4CC7-B418-B9ABB2C8D284}" type="slidenum">
              <a:t>&lt;#&gt;</a:t>
            </a:fld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50D849B-8FB3-4516-BAAB-AAD8CA8C43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B54B0-1AE4-429F-9F7F-D3556AF2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46F010B-FD33-48C0-AD1A-ED12D5743A24}" type="slidenum">
              <a:t>&lt;#&gt;</a:t>
            </a:fld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2B488F5-496B-4C71-AA8F-37B6050004DB}" type="slidenum">
              <a:t>&lt;#&gt;</a:t>
            </a:fld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CC2E8DB-B1CE-4E37-9475-7FF1829A9706}" type="slidenum">
              <a:t>&lt;#&gt;</a:t>
            </a:fld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FDADB40-549B-48CF-8F06-26797C7E224D}" type="slidenum">
              <a:t>&lt;#&gt;</a:t>
            </a:fld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117D8A4-F1D6-42D1-8AC5-4D03AAB71892}" type="slidenum">
              <a:t>&lt;#&gt;</a:t>
            </a:fld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37675C7-7034-4C42-807F-0E0E7A253D20}" type="slidenum">
              <a:t>&lt;#&gt;</a:t>
            </a:fld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2C1CC78-3F9B-4D5A-8301-3034BBAA71A6}" type="slidenum">
              <a:t>&lt;#&gt;</a:t>
            </a:fld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09C948F-F9FA-4BD2-8AA4-727B8184E4AD}" type="slidenum">
              <a:t>&lt;#&gt;</a:t>
            </a:fld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3ACDD06-D766-4EA8-8286-9AEC53DFF899}" type="slidenum">
              <a:t>&lt;#&gt;</a:t>
            </a:fld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786651F-D62F-4C4C-AA4B-4BC57163453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8A1E4-1563-4F99-B180-67B2EB7C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0A961B4-7641-4BB9-8DA0-3B2F0B2B8C1B}" type="slidenum">
              <a:t>&lt;#&gt;</a:t>
            </a:fld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C7133B9-5787-4BC3-8B43-697A60D1D7CB}" type="slidenum">
              <a:t>&lt;#&gt;</a:t>
            </a:fld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F696E77-8251-4C6E-98D4-3EC0302CB7ED}" type="slidenum">
              <a:t>&lt;#&gt;</a:t>
            </a:fld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4264B1D-8291-41FD-9ABD-35925A78823A}" type="slidenum">
              <a:t>&lt;#&gt;</a:t>
            </a:fld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3BEC35C-8138-448D-A6AD-476153413DA7}" type="slidenum">
              <a:t>&lt;#&gt;</a:t>
            </a:fld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51F2C67-60DD-466C-99D3-E9D6C364B739}" type="slidenum">
              <a:t>&lt;#&gt;</a:t>
            </a:fld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C1D5CCB-CC95-4D82-8946-5D6F4704C14E}" type="slidenum">
              <a:t>&lt;#&gt;</a:t>
            </a:fld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D77172D-DE7C-4A8F-946F-745ABAF5EF5D}" type="slidenum">
              <a:t>&lt;#&gt;</a:t>
            </a:fld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E9B4954-C783-493C-945A-2D190D995693}" type="slidenum">
              <a:t>&lt;#&gt;</a:t>
            </a:fld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5220B1-1D88-46C9-A4A5-542C34CB3B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AED2C-62B9-4260-AB74-4E9147B2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E1FA75-F459-4094-8BB9-021478197F1B}" type="slidenum">
              <a:t>&lt;#&gt;</a:t>
            </a:fld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50A196-2747-40A3-8652-6F6AB975DBFC}" type="slidenum">
              <a:t>&lt;#&gt;</a:t>
            </a:fld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93470C-DF12-4565-B65A-CD6576C0B395}" type="slidenum">
              <a:t>&lt;#&gt;</a:t>
            </a:fld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F86CD5-F429-4423-A030-F5F96A9EC0D3}" type="slidenum">
              <a:t>&lt;#&gt;</a:t>
            </a:fld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8D86559-C5BB-47BB-96AC-6FE93F9A12F3}" type="slidenum">
              <a:t>&lt;#&gt;</a:t>
            </a:fld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A0D6C8-5D2D-40EF-9762-D99911143F2B}" type="slidenum">
              <a:t>&lt;#&gt;</a:t>
            </a:fld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9F7E84-FF9C-4177-85A7-6491A91D913D}" type="slidenum">
              <a:t>&lt;#&gt;</a:t>
            </a:fld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8F063E-9D63-4DB0-ABF7-12E9FF73CDD8}" type="slidenum">
              <a:t>&lt;#&gt;</a:t>
            </a:fld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ABE556-EE6E-462A-9D28-27F6F11D6173}" type="slidenum">
              <a:t>&lt;#&gt;</a:t>
            </a:fld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F18DA3-CF2B-491D-A52B-73843CEC8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8FF4-3D9A-46A2-A911-3E62FFD6739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D9373-60B7-49FF-9E1B-8754348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375F9B-B8E1-454E-B687-C88C10F0B986}" type="slidenum">
              <a:t>&lt;#&gt;</a:t>
            </a:fld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6913100-07B7-44BD-8775-4C89D96B7984}" type="slidenum">
              <a:t>&lt;#&gt;</a:t>
            </a:fld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F1872D4-71C3-4588-8D8D-55063E33C6CD}" type="slidenum">
              <a:t>&lt;#&gt;</a:t>
            </a:fld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827EB3F-3F30-4B23-8798-A7ECC428C28E}" type="slidenum">
              <a:t>&lt;#&gt;</a:t>
            </a:fld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15B9D36-35BF-4FA6-8D27-10CBED216ACC}" type="slidenum">
              <a:t>&lt;#&gt;</a:t>
            </a:fld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950B597-82C5-4CF1-8394-995B2368D139}" type="slidenum">
              <a:t>&lt;#&gt;</a:t>
            </a:fld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F4945A4-72BC-49A7-B2CA-F6D2534EA77F}" type="slidenum">
              <a:t>&lt;#&gt;</a:t>
            </a:fld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9DFECCB-BB25-47FC-BD0A-DFF269931F62}" type="slidenum">
              <a:t>&lt;#&gt;</a:t>
            </a:fld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B934C01-2F05-4FA5-9942-1C22E486430A}" type="slidenum">
              <a:t>&lt;#&gt;</a:t>
            </a:fld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64E935D-D72A-482B-9BBF-AE323E8815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CEBB6-49F2-4693-8C48-A5CD400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C92EDAE-3248-4396-8C3F-F9925EE907A7}" type="slidenum">
              <a:t>&lt;#&gt;</a:t>
            </a:fld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451706D-D12B-42C2-B701-D802CFDDC6A6}" type="slidenum">
              <a:t>&lt;#&gt;</a:t>
            </a:fld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D541176-E9F8-4647-B458-8BB62FD5B397}" type="slidenum">
              <a:t>&lt;#&gt;</a:t>
            </a:fld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0839609-8BCA-4126-9D84-BCA7AEF5378A}" type="slidenum">
              <a:t>&lt;#&gt;</a:t>
            </a:fld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D27D55D-8E5A-4AA0-9DC0-3B44F41E6BAB}" type="slidenum">
              <a:t>&lt;#&gt;</a:t>
            </a:fld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69DDBD9-0A6B-4F74-A974-C3FDCD50EA5C}" type="slidenum">
              <a:t>&lt;#&gt;</a:t>
            </a:fld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5E0278C-02B3-4356-A6E1-2D34822D7712}" type="slidenum">
              <a:t>&lt;#&gt;</a:t>
            </a:fld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116C77D-B650-46F2-B1CB-BAEEE4BF3A95}" type="slidenum">
              <a:t>&lt;#&gt;</a:t>
            </a:fld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7CD2B7F-5CB1-459A-B252-EACC48C5E0FF}" type="slidenum">
              <a:t>&lt;#&gt;</a:t>
            </a:fld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7D70F6E-43BF-469F-B09A-A75A072D4D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D4D73-67BA-4287-807A-2F3498A6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72ACEE3-8CF9-47AE-9B5C-435FEB9D42E2}" type="slidenum">
              <a:t>&lt;#&gt;</a:t>
            </a:fld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F82DDB4-5584-4FB1-96DB-DD4BD30881DA}" type="slidenum">
              <a:t>&lt;#&gt;</a:t>
            </a:fld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0391138-5E16-4A4A-8D1F-7D424FEC1776}" type="slidenum">
              <a:t>&lt;#&gt;</a:t>
            </a:fld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B9C392E-9C1D-47C3-A3F4-D7909C10F4B5}" type="slidenum">
              <a:t>&lt;#&gt;</a:t>
            </a:fld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5E2478B-F47B-4C9B-9921-03C7391FBEA8}" type="slidenum">
              <a:t>&lt;#&gt;</a:t>
            </a:fld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1D10757-46E1-4D78-B646-5D952215114D}" type="slidenum">
              <a:t>&lt;#&gt;</a:t>
            </a:fld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8BC6A15-DBA0-4F77-B3D5-E63DFFD81B6F}" type="slidenum">
              <a:t>&lt;#&gt;</a:t>
            </a:fld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B3CF5F-184F-4250-BD50-F5020B7BFCD5}" type="slidenum">
              <a:t>&lt;#&gt;</a:t>
            </a:fld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E68489-69FE-4797-BF6A-B0D2B32964F6}" type="slidenum">
              <a:t>&lt;#&gt;</a:t>
            </a:fld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1ADD95-5877-4765-B049-AF014A4050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3752A-6586-455E-BA51-E1DE5EA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5A7523-C0A7-4E2C-AAF7-ED27738D2418}" type="slidenum">
              <a:t>&lt;#&gt;</a:t>
            </a:fld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7D1156-5CBA-4A0E-BB79-CFD5A9F9FA51}" type="slidenum">
              <a:t>&lt;#&gt;</a:t>
            </a:fld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03942C-1747-45D5-8BF4-0308BFE88604}" type="slidenum">
              <a:t>&lt;#&gt;</a:t>
            </a:fld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A929A3-CB2B-4501-B204-163D03A5534E}" type="slidenum">
              <a:t>&lt;#&gt;</a:t>
            </a:fld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C6B5AE-56BE-4944-B88A-A381FF2D7A4B}" type="slidenum">
              <a:t>&lt;#&gt;</a:t>
            </a:fld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2159A1-5CF7-4FE3-92B5-4C4B08388153}" type="slidenum">
              <a:t>&lt;#&gt;</a:t>
            </a:fld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C06544-07DE-4AE6-B024-404D79242286}" type="slidenum">
              <a:t>&lt;#&gt;</a:t>
            </a:fld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0D2BC50-B7FE-41C2-821B-3BD64B229889}" type="slidenum">
              <a:t>&lt;#&gt;</a:t>
            </a:fld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FEA033C-D8EA-4D84-927B-AD953F501445}" type="slidenum">
              <a:t>&lt;#&gt;</a:t>
            </a:fld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0AC6059-84C3-4C96-90FE-308D95B781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9AD5F-9D7E-4D30-A687-80C2B2C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90491C-BD98-4C0F-B743-CF1091C4FE2D}" type="slidenum">
              <a:t>&lt;#&gt;</a:t>
            </a:fld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A6438BB-9C3B-4BB2-B0E1-E111B51B81D2}" type="slidenum">
              <a:t>&lt;#&gt;</a:t>
            </a:fld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0948618-D663-4421-B154-0BF0C1BF5A72}" type="slidenum">
              <a:t>&lt;#&gt;</a:t>
            </a:fld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E11CB0F-D58D-44D3-90EF-F1AEA46204A2}" type="slidenum">
              <a:t>&lt;#&gt;</a:t>
            </a:fld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3B2FF84-6843-4052-8BE9-D8B685BAC2EA}" type="slidenum">
              <a:t>&lt;#&gt;</a:t>
            </a:fld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9DFA0C8-CF19-49BF-96F8-357004AEDE7E}" type="slidenum">
              <a:t>&lt;#&gt;</a:t>
            </a:fld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A6015E4-BB47-4055-A21B-12446D6B5449}" type="slidenum">
              <a:t>&lt;#&gt;</a:t>
            </a:fld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819FD4B-C8DC-49DD-B3A7-1F1C9C4C9603}" type="slidenum">
              <a:t>&lt;#&gt;</a:t>
            </a:fld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2747257-AECE-4B74-B680-805F15D4C7D1}" type="slidenum">
              <a:t>&lt;#&gt;</a:t>
            </a:fld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D3B1FB7-9CCE-41CA-A610-3C0DFA93E8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4CB3F-1E7A-4497-BBA7-C84B3DE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338D251-FE57-49C6-ACC6-449583AC5734}" type="slidenum">
              <a:t>&lt;#&gt;</a:t>
            </a:fld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D41C4BF-7A5D-4D72-BE64-CE17DFEEDD3E}" type="slidenum">
              <a:t>&lt;#&gt;</a:t>
            </a:fld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F451E13-8DF8-4241-B626-4A4C437A4393}" type="slidenum">
              <a:t>&lt;#&gt;</a:t>
            </a:fld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019B741-DBEE-4095-A0B9-E79C2B622B4C}" type="slidenum">
              <a:t>&lt;#&gt;</a:t>
            </a:fld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60CCE91-DE46-46D8-A0E3-0E6A6806F15C}" type="slidenum">
              <a:t>&lt;#&gt;</a:t>
            </a:fld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E7A11EE-9F3E-4D94-BFC0-89361E4BAED5}" type="slidenum">
              <a:t>&lt;#&gt;</a:t>
            </a:fld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92B7B99-E44D-404B-8721-1371FEECDFE7}" type="slidenum">
              <a:t>&lt;#&gt;</a:t>
            </a:fld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8313466-EE28-4958-A812-14A7B0686E73}" type="slidenum">
              <a:t>&lt;#&gt;</a:t>
            </a:fld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6FF93B2-F1AB-4126-98FE-81F8C7975465}" type="slidenum">
              <a:t>&lt;#&gt;</a:t>
            </a:fld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30CD798-5A1D-43DB-9D9C-79990E2D56F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DF310-7769-47B2-8DD3-DC985F590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50DE3E9-8F84-4AD5-BCA1-CC4FCEF1C9AF}" type="slidenum">
              <a:t>&lt;#&gt;</a:t>
            </a:fld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233048-B1C9-4064-A91E-B84C20D9702B}" type="slidenum">
              <a:t>&lt;#&gt;</a:t>
            </a:fld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5B5BD7-C6A9-4197-AB1E-99C985F84956}" type="slidenum">
              <a:t>&lt;#&gt;</a:t>
            </a:fld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564356E-8249-4F81-BFE7-7C243DC3374E}" type="slidenum">
              <a:t>&lt;#&gt;</a:t>
            </a:fld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A05DAF-C00D-458D-8B11-94F03CF648C3}" type="slidenum">
              <a:t>&lt;#&gt;</a:t>
            </a:fld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23E723-9E14-4007-B3CB-49638C882B63}" type="slidenum">
              <a:t>&lt;#&gt;</a:t>
            </a:fld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30B56B-362C-4CBD-8583-39A31AFDF286}" type="slidenum">
              <a:t>&lt;#&gt;</a:t>
            </a:fld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3A0D3F-2B82-45A5-A2D3-654C6D529C6E}" type="slidenum">
              <a:t>&lt;#&gt;</a:t>
            </a:fld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0C665B-C234-477E-B5DD-3E9B4B900966}" type="slidenum">
              <a:t>&lt;#&gt;</a:t>
            </a:fld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EF2836-6B3D-42B8-B7B5-320096EF25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2F0B-D8AB-4654-A160-70C9D595C068}" type="slidenum">
              <a:t>&lt;#&gt;</a:t>
            </a:fld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B7599A-4AB5-4A8E-A4AE-C96F73E01614}" type="slidenum">
              <a:t>&lt;#&gt;</a:t>
            </a:fld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3BADA1-6A6E-4C8F-BB28-A38C0B7CF144}" type="slidenum">
              <a:t>&lt;#&gt;</a:t>
            </a:fld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60B1EA-88AC-46AD-9423-1FD1DF2B1BA6}" type="slidenum">
              <a:t>&lt;#&gt;</a:t>
            </a:fld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4BE73FA-507C-4970-A285-89FD7E41DEEB}" type="slidenum">
              <a:t>&lt;#&gt;</a:t>
            </a:fld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7A21A08-7F3D-4AEB-A0DC-2C48C3A97E38}" type="slidenum">
              <a:t>&lt;#&gt;</a:t>
            </a:fld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D6069CF-3704-4D0E-BA3E-6FB724B713F4}" type="slidenum">
              <a:t>&lt;#&gt;</a:t>
            </a:fld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ACF6EC2-DD9A-454E-8756-56B32336685A}" type="slidenum">
              <a:t>&lt;#&gt;</a:t>
            </a:fld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ED07D03-E7C7-4DC2-AD03-CFB0EBB80AAD}" type="slidenum">
              <a:t>&lt;#&gt;</a:t>
            </a:fld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6A276FE-B47E-47A7-903F-625C04ACAAA8}" type="slidenum">
              <a:t>&lt;#&gt;</a:t>
            </a:fld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BA07853-36CB-4FCD-B85F-8CFA5F3E379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89DF-3DEB-46DB-BDBB-F45E2D7C30AF}" type="slidenum">
              <a:t>&lt;#&gt;</a:t>
            </a:fld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EDA5A59-543F-46D5-85DF-E21EC2CF2B4A}" type="slidenum">
              <a:t>&lt;#&gt;</a:t>
            </a:fld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F003810-06AF-4D4B-9F28-20EA4575F79B}" type="slidenum">
              <a:t>&lt;#&gt;</a:t>
            </a:fld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33E2848-EB85-4096-BE07-9E133A2B63C1}" type="slidenum">
              <a:t>&lt;#&gt;</a:t>
            </a:fld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907F983-E979-4683-8654-1FB6E1289373}" type="slidenum">
              <a:t>&lt;#&gt;</a:t>
            </a:fld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B0FF6DB-A3E1-4F38-B388-386514D4E9F7}" type="slidenum">
              <a:t>&lt;#&gt;</a:t>
            </a:fld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1E12A29-4CBF-415E-B951-9AD7C98CEFBD}" type="slidenum">
              <a:t>&lt;#&gt;</a:t>
            </a:fld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D43151A-9FCA-48F3-8F67-CDD4D83B8BE3}" type="slidenum">
              <a:t>&lt;#&gt;</a:t>
            </a:fld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313FF6F-106B-4042-9576-0559C4EF5D6D}" type="slidenum">
              <a:t>&lt;#&gt;</a:t>
            </a:fld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3F21E3B-E655-48CC-AD74-BD9A04CEF31D}" type="slidenum">
              <a:t>&lt;#&gt;</a:t>
            </a:fld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EB867E0-BB2C-4839-8421-6190DC4B40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2578C-E70D-4359-938B-443C6518B1FF}" type="slidenum">
              <a:t>&lt;#&gt;</a:t>
            </a:fld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1041977-1D93-4E9A-8BC4-2DA0241C56FC}" type="slidenum">
              <a:t>&lt;#&gt;</a:t>
            </a:fld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69E5206-015B-4CB0-A51B-995110D26046}" type="slidenum">
              <a:t>&lt;#&gt;</a:t>
            </a:fld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156605E-5483-432C-9005-8409F3D58835}" type="slidenum">
              <a:t>&lt;#&gt;</a:t>
            </a:fld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631C0C2-BC89-43DA-AFDA-6D5D1EAD60D5}" type="slidenum">
              <a:t>&lt;#&gt;</a:t>
            </a:fld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DD932BE-E053-4374-BFD6-B40FB695723E}" type="slidenum">
              <a:t>&lt;#&gt;</a:t>
            </a:fld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DB1C854-4E4B-4CB6-9956-41B79DD12D3D}" type="slidenum">
              <a:t>&lt;#&gt;</a:t>
            </a:fld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10F6809-C271-4730-8ADD-92D67BA16E61}" type="slidenum">
              <a:t>&lt;#&gt;</a:t>
            </a:fld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35F0D5-2037-4D35-A645-D26DA8575313}" type="slidenum">
              <a:t>&lt;#&gt;</a:t>
            </a:fld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0E1FE0-BBBA-4A08-AD47-7553013C5190}" type="slidenum">
              <a:t>&lt;#&gt;</a:t>
            </a:fld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92B348-AAC0-46E5-98BF-A2F53E48F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F9CF-D40D-4D2B-B9D9-DB97BBCF789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EB371-29DB-4D1E-B4C2-2AD35BC313E2}" type="slidenum">
              <a:t>&lt;#&gt;</a:t>
            </a:fld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BAD4FD-2C4F-49FE-A34C-E71ABF06190F}" type="slidenum">
              <a:t>&lt;#&gt;</a:t>
            </a:fld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13CF76-3E63-4A3D-881B-EDA8DBB58CC0}" type="slidenum">
              <a:t>&lt;#&gt;</a:t>
            </a:fld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1B4EA7-CAD3-4CF8-9F83-DF0FEE7BBDD1}" type="slidenum">
              <a:t>&lt;#&gt;</a:t>
            </a:fld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634614-0662-4B1E-BC06-93012C44A937}" type="slidenum">
              <a:t>&lt;#&gt;</a:t>
            </a:fld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8128F1-0BE9-48F9-B842-761B4BA3186F}" type="slidenum">
              <a:t>&lt;#&gt;</a:t>
            </a:fld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BB663A-C6CA-4FCD-A9D0-F423F6798938}" type="slidenum">
              <a:t>&lt;#&gt;</a:t>
            </a:fld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89C83B-DE47-444D-BF37-AE9B1B49A78B}" type="slidenum">
              <a:t>&lt;#&gt;</a:t>
            </a:fld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AD60DF-AE8A-4338-9D11-6C0D9235879F}" type="slidenum">
              <a:t>&lt;#&gt;</a:t>
            </a:fld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2C8CBC-C2E1-4E4F-81D5-F7384BA855DB}" type="slidenum">
              <a:t>&lt;#&gt;</a:t>
            </a:fld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7068344-F57F-49EF-996E-8ADC5D1A428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4C8C-F0B2-460F-A3E0-7FC8A0F3D553}" type="slidenum">
              <a:t>&lt;#&gt;</a:t>
            </a:fld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71E4CEC-E4FD-458D-B4AD-889AA223FDCD}" type="slidenum">
              <a:t>&lt;#&gt;</a:t>
            </a:fld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E0B661D-68A6-41EC-AA4E-940348286E64}" type="slidenum">
              <a:t>&lt;#&gt;</a:t>
            </a:fld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5D87C61-AB64-4ABB-BD54-2EF1FCEBC15E}" type="slidenum">
              <a:t>&lt;#&gt;</a:t>
            </a:fld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8DB7A79-51D9-4658-B805-6EA7D7692639}" type="slidenum">
              <a:t>&lt;#&gt;</a:t>
            </a:fld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BA5511F-32FA-4A26-992B-89F1F1D11B9F}" type="slidenum">
              <a:t>&lt;#&gt;</a:t>
            </a:fld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9321230-3263-4532-A63A-2ECB16C68D01}" type="slidenum">
              <a:t>&lt;#&gt;</a:t>
            </a:fld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567E9E5-B250-4C99-9336-1E287915DEE9}" type="slidenum">
              <a:t>&lt;#&gt;</a:t>
            </a:fld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5F9DE20-E681-44C6-B6DF-8BA704A59F3D}" type="slidenum">
              <a:t>&lt;#&gt;</a:t>
            </a:fld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B9F5409-6CAF-4055-B9D4-9EF6BB633768}" type="slidenum">
              <a:t>&lt;#&gt;</a:t>
            </a:fld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A6F7B86-EBD6-4896-9046-6B154182ADF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468B-3303-4B29-84DF-285AAD9C07BF}" type="slidenum">
              <a:t>&lt;#&gt;</a:t>
            </a:fld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D81D47C-F73A-4C93-9658-3160C17DF007}" type="slidenum">
              <a:t>&lt;#&gt;</a:t>
            </a:fld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3C4810C-799B-434E-90C5-D633E7F62812}" type="slidenum">
              <a:t>&lt;#&gt;</a:t>
            </a:fld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3892693-B779-480A-9EEC-D8ACC81ADA95}" type="slidenum">
              <a:t>&lt;#&gt;</a:t>
            </a:fld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2896CDB-1BA4-4492-A249-20D30E104EB9}" type="slidenum">
              <a:t>&lt;#&gt;</a:t>
            </a:fld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7D34857-317C-46C2-9FD9-E55CBCD0A574}" type="slidenum">
              <a:t>&lt;#&gt;</a:t>
            </a:fld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1D3DECB-7FF5-4EBE-AD46-D1E76DCA23F4}" type="slidenum">
              <a:t>&lt;#&gt;</a:t>
            </a:fld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4DFC5DD-31B3-445D-AB04-7188969213AE}" type="slidenum">
              <a:t>&lt;#&gt;</a:t>
            </a:fld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9C56BC7-2CFC-4C97-B950-1DD664E23E42}" type="slidenum">
              <a:t>&lt;#&gt;</a:t>
            </a:fld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4E7FFDC-4B8E-4619-9FBB-B61BEE4ACA7E}" type="slidenum">
              <a:t>&lt;#&gt;</a:t>
            </a:fld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E737FDA-2577-4AA9-BB5B-B98A41E72A5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5B9F-EBD4-4F50-9771-5B8517AA5F45}" type="slidenum">
              <a:t>&lt;#&gt;</a:t>
            </a:fld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65F21E7-9BF3-48CA-A6DE-A4EE5DEFE73B}" type="slidenum">
              <a:t>&lt;#&gt;</a:t>
            </a:fld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21F6BDC-5B2A-4FD0-B84E-A4288B14F2F1}" type="slidenum">
              <a:t>&lt;#&gt;</a:t>
            </a:fld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1BC6FC3-DFCD-4B3F-8496-A7275F5FBF8C}" type="slidenum">
              <a:t>&lt;#&gt;</a:t>
            </a:fld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574AF5-A31B-47D6-8CDA-2C00758019F4}" type="slidenum">
              <a:t>&lt;#&gt;</a:t>
            </a:fld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D7271B-B620-4CFD-A0B2-8E999231F908}" type="slidenum">
              <a:t>&lt;#&gt;</a:t>
            </a:fld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CDC9A0-C381-4B1D-BAFB-6EC73407FAB6}" type="slidenum">
              <a:t>&lt;#&gt;</a:t>
            </a:fld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6BD7DA6-4E3C-47F3-93CB-8D83E1900E1C}" type="slidenum">
              <a:t>&lt;#&gt;</a:t>
            </a:fld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D382C3-1B12-43B1-B737-EE6CD665A8E4}" type="slidenum">
              <a:t>&lt;#&gt;</a:t>
            </a:fld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359433-7FB6-4EC3-8E0F-3BD6533F827D}" type="slidenum">
              <a:t>&lt;#&gt;</a:t>
            </a:fld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70DB8F-A7BB-4EE9-BA66-53942A41BE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FB2C-ED3B-46E7-AB14-07927478C86F}" type="slidenum">
              <a:t>&lt;#&gt;</a:t>
            </a:fld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903C0E-36FB-42DF-8694-C2AFD029D1FA}" type="slidenum">
              <a:t>&lt;#&gt;</a:t>
            </a:fld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1999FA-DBD1-4C30-8660-54189AC50254}" type="slidenum">
              <a:t>&lt;#&gt;</a:t>
            </a:fld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AFF16E-CFBB-4330-93C5-199EC12A2496}" type="slidenum">
              <a:t>&lt;#&gt;</a:t>
            </a:fld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24A71F-BD47-4E66-90ED-FDBF5F64A100}" type="slidenum">
              <a:t>&lt;#&gt;</a:t>
            </a:fld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A3F2C0-D47E-4408-A5D5-F2E13B4B3FA0}" type="slidenum">
              <a:t>&lt;#&gt;</a:t>
            </a:fld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1F1CB26-260F-4A2C-A760-337384546BAB}" type="slidenum">
              <a:t>&lt;#&gt;</a:t>
            </a:fld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13A0C01-1D5C-417F-8E9D-354F3AF1FE49}" type="slidenum">
              <a:t>&lt;#&gt;</a:t>
            </a:fld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5746F05-F6F3-43F3-A36E-BC78D18E4D09}" type="slidenum">
              <a:t>&lt;#&gt;</a:t>
            </a:fld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3D2EB73-144D-43B7-A945-BC73C94E7755}" type="slidenum">
              <a:t>&lt;#&gt;</a:t>
            </a:fld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7F8DA68-4BF6-4B6C-8A91-BC1F56D244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758B-4C0F-4217-A927-99055B3F779A}" type="slidenum">
              <a:t>&lt;#&gt;</a:t>
            </a:fld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29B06B7-D006-4541-A415-D5199E50B617}" type="slidenum">
              <a:t>&lt;#&gt;</a:t>
            </a:fld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B4E5E69-833E-4FE2-985B-801604E7D429}" type="slidenum">
              <a:t>&lt;#&gt;</a:t>
            </a:fld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F51DBE1-5B81-4672-936F-25528235DC61}" type="slidenum">
              <a:t>&lt;#&gt;</a:t>
            </a:fld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1D01166-19EF-4AD8-BA3D-A8E731F3B0AA}" type="slidenum">
              <a:t>&lt;#&gt;</a:t>
            </a:fld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22428D4-7600-431C-B4DF-465483A5D0E6}" type="slidenum">
              <a:t>&lt;#&gt;</a:t>
            </a:fld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17925C8-6B51-46FA-BA08-2BB5BE705201}" type="slidenum">
              <a:t>&lt;#&gt;</a:t>
            </a:fld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3EAFE38-18C3-4D39-826A-74240C393216}" type="slidenum">
              <a:t>&lt;#&gt;</a:t>
            </a:fld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457E346-4DDF-4B2C-AAAC-5508892B7EBC}" type="slidenum">
              <a:t>&lt;#&gt;</a:t>
            </a:fld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B1E391B-8054-4A5B-8B63-FC51B205F4EE}" type="slidenum">
              <a:t>&lt;#&gt;</a:t>
            </a:fld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89FBFAE-D5C6-46CE-B07B-468595A69D0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F3165-570D-45FA-8009-82BAF736C10B}" type="slidenum">
              <a:t>&lt;#&gt;</a:t>
            </a:fld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A29DEEC-749A-4869-8179-534866BF6C8B}" type="slidenum">
              <a:t>&lt;#&gt;</a:t>
            </a:fld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94F40AE-07E7-468B-987B-DA97C61C073E}" type="slidenum">
              <a:t>&lt;#&gt;</a:t>
            </a:fld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9BC84DB-BCD7-467C-8D5C-B94A0085D828}" type="slidenum">
              <a:t>&lt;#&gt;</a:t>
            </a:fld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07A1EDB-816B-4FA1-B5E9-15538A52E65E}" type="slidenum">
              <a:t>&lt;#&gt;</a:t>
            </a:fld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DA235D3-3ABD-448F-B809-20FB020C250B}" type="slidenum">
              <a:t>&lt;#&gt;</a:t>
            </a:fld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E3BD1A0-5A36-4E59-8145-8FA4DA28C2FF}" type="slidenum">
              <a:t>&lt;#&gt;</a:t>
            </a:fld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19891C9-E206-434F-ABB6-844CA839016B}" type="slidenum">
              <a:t>&lt;#&gt;</a:t>
            </a:fld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4269BF7-6830-4F70-BBB7-DF0CB1F22703}" type="slidenum">
              <a:t>&lt;#&gt;</a:t>
            </a:fld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16AA979-CF47-4F02-9E47-A8845C863BB0}" type="slidenum">
              <a:t>&lt;#&gt;</a:t>
            </a:fld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C1700AB-5598-4B35-BC9D-3472340EC34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96F0-D198-4532-AEFC-6D4B74C9C318}" type="slidenum">
              <a:t>&lt;#&gt;</a:t>
            </a:fld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E44CF58-692D-4020-B7ED-FA332803B41F}" type="slidenum">
              <a:t>&lt;#&gt;</a:t>
            </a:fld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14472B-CB4D-4CBF-BFB7-DEA1EA51F1E2}" type="slidenum">
              <a:t>&lt;#&gt;</a:t>
            </a:fld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BFAA1C-1CEA-4114-A012-90464ADCC3FD}" type="slidenum">
              <a:t>&lt;#&gt;</a:t>
            </a:fld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D213FB-F22B-4241-AFCA-25124F38A3D9}" type="slidenum">
              <a:t>&lt;#&gt;</a:t>
            </a:fld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4B9848-5993-4AD8-945C-A0A6DB92F695}" type="slidenum">
              <a:t>&lt;#&gt;</a:t>
            </a:fld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0C9A70-03EC-4A22-801A-BE1D189ADCC4}" type="slidenum">
              <a:t>&lt;#&gt;</a:t>
            </a:fld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114EF5-988B-4E72-9F66-F5C0B73EA85E}" type="slidenum">
              <a:t>&lt;#&gt;</a:t>
            </a:fld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D45FC8-9BA3-4149-93D2-E7783389AC8A}" type="slidenum">
              <a:t>&lt;#&gt;</a:t>
            </a:fld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EC2A63F-0FAE-4BDF-A74C-39E39FF607F2}" type="slidenum">
              <a:t>&lt;#&gt;</a:t>
            </a:fld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B70650-8782-4EBB-98C7-6F9C5CF6FBE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94DE-FB8B-4415-9A0D-15C4B4225447}" type="slidenum">
              <a:t>&lt;#&gt;</a:t>
            </a:fld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793103-396E-4397-ACCB-8D62723659CC}" type="slidenum">
              <a:t>&lt;#&gt;</a:t>
            </a:fld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3F4E7C6-4C08-4D9D-B8D6-DC4D130CB714}" type="slidenum">
              <a:t>&lt;#&gt;</a:t>
            </a:fld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78FF5D3-F64A-4975-95DC-D42303B6F3C2}" type="slidenum">
              <a:t>&lt;#&gt;</a:t>
            </a:fld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918A064-2EFC-4B05-8895-8EE689038CF1}" type="slidenum">
              <a:t>&lt;#&gt;</a:t>
            </a:fld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F018B55-7C03-4181-AB3F-2CE4A9062285}" type="slidenum">
              <a:t>&lt;#&gt;</a:t>
            </a:fld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6C0CEBF-0A9F-4117-93B0-8B95C71E6D3A}" type="slidenum">
              <a:t>&lt;#&gt;</a:t>
            </a:fld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DF0C47-C4A6-49CC-80A1-9E25BA4AAA2C}" type="slidenum">
              <a:t>&lt;#&gt;</a:t>
            </a:fld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E0986D6-B065-41B3-B87A-B0D5496C1B62}" type="slidenum">
              <a:t>&lt;#&gt;</a:t>
            </a:fld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B0C2236-0F64-4A39-B270-181A29A64EFD}" type="slidenum">
              <a:t>&lt;#&gt;</a:t>
            </a:fld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D208DB1-7F5E-4A7B-963E-D298858995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5CDD3-7E24-436B-9F4F-56931064CE92}" type="slidenum">
              <a:t>&lt;#&gt;</a:t>
            </a:fld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7C1210D-938D-4420-909D-53ADD8DCB959}" type="slidenum">
              <a:t>&lt;#&gt;</a:t>
            </a:fld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BA6C1F4-28AD-4FF4-9D2F-0DB7CDF62960}" type="slidenum">
              <a:t>&lt;#&gt;</a:t>
            </a:fld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2E9DF43-FA73-4DB0-9F8D-23A04EA7F7C3}" type="slidenum">
              <a:t>&lt;#&gt;</a:t>
            </a:fld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5A329AA-4B77-4F27-B494-320752EE7DA2}" type="slidenum">
              <a:t>&lt;#&gt;</a:t>
            </a:fld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7B0CDD0-0314-4AB7-B772-FC4F2E1D1B76}" type="slidenum">
              <a:t>&lt;#&gt;</a:t>
            </a:fld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999BD05-CD12-4FBE-B701-81BC556877B4}" type="slidenum">
              <a:t>&lt;#&gt;</a:t>
            </a:fld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3192ADE-CF21-46D9-A718-6706E6C0EEBA}" type="slidenum">
              <a:t>&lt;#&gt;</a:t>
            </a:fld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CECB0E4-F0E3-4CB1-A5C1-4F8D8A1C5423}" type="slidenum">
              <a:t>&lt;#&gt;</a:t>
            </a:fld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280AF39-1847-426B-9D1A-A59A60B6CD08}" type="slidenum">
              <a:t>&lt;#&gt;</a:t>
            </a:fld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57BFF1E-0EB1-45B9-8161-B4D48DAA9B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1B95-B499-401A-98E8-41AC2D38140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E5193-1B51-47A5-9761-23C9CB0E3743}" type="slidenum">
              <a:t>&lt;#&gt;</a:t>
            </a:fld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5336A0C-6768-41DE-A799-15E1569297EF}" type="slidenum">
              <a:t>&lt;#&gt;</a:t>
            </a:fld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548D1E1-1DD5-4F23-A76F-C318432D027C}" type="slidenum">
              <a:t>&lt;#&gt;</a:t>
            </a:fld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D2E2075-2CB8-40A6-BACE-8E244D86AC8E}" type="slidenum">
              <a:t>&lt;#&gt;</a:t>
            </a:fld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E0EF094-FAA6-4795-B2FA-08B6D5385294}" type="slidenum">
              <a:t>&lt;#&gt;</a:t>
            </a:fld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65BD5BD-A7AC-4169-B86F-D2F19136CA5B}" type="slidenum">
              <a:t>&lt;#&gt;</a:t>
            </a:fld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8F6383-939A-4629-B5BC-A1204430C9F6}" type="slidenum">
              <a:t>&lt;#&gt;</a:t>
            </a:fld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8B21C4-C827-4ED8-BE5C-B346592FB203}" type="slidenum">
              <a:t>&lt;#&gt;</a:t>
            </a:fld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F37888-74A0-4948-BDEC-73E58857AF0C}" type="slidenum">
              <a:t>&lt;#&gt;</a:t>
            </a:fld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36B4A9-4B4F-487D-AD81-A6ADEA4B9A87}" type="slidenum">
              <a:t>&lt;#&gt;</a:t>
            </a:fld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91F992-08DF-4917-9D75-F1F3FE350B6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33BAE-C2AB-422C-8FCB-35D4F4BE49C9}" type="slidenum">
              <a:t>&lt;#&gt;</a:t>
            </a:fld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FA0FE0-021D-47BB-8570-8D0BEEB2BAAD}" type="slidenum">
              <a:t>&lt;#&gt;</a:t>
            </a:fld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2553DC-1A0B-419A-A906-7E8A7C06B19F}" type="slidenum">
              <a:t>&lt;#&gt;</a:t>
            </a:fld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101AB1-0FB8-4CF1-807F-2ECEA6510DE9}" type="slidenum">
              <a:t>&lt;#&gt;</a:t>
            </a:fld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A05C05-8C59-4AC7-83E5-49F860A27C2E}" type="slidenum">
              <a:t>&lt;#&gt;</a:t>
            </a:fld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498F78-5723-4288-9184-F226A28F9DE3}" type="slidenum">
              <a:t>&lt;#&gt;</a:t>
            </a:fld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AD501F-6208-4D26-BD33-A5B7D8C2630F}" type="slidenum">
              <a:t>&lt;#&gt;</a:t>
            </a:fld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7BE0D0-D8D1-4E85-8395-FD93A9E344EC}" type="slidenum">
              <a:t>&lt;#&gt;</a:t>
            </a:fld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4408B84-F700-4D92-ACCF-907C42B8AB00}" type="slidenum">
              <a:t>&lt;#&gt;</a:t>
            </a:fld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F8AE0AD-37E8-48E1-8469-49979C2FCAF8}" type="slidenum">
              <a:t>&lt;#&gt;</a:t>
            </a:fld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B0D5DED-3574-4744-8E37-7608BB330EA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6BC11-F978-402C-A6ED-23B97FBE1BD8}" type="slidenum">
              <a:t>&lt;#&gt;</a:t>
            </a:fld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7F14D5D-865A-4809-8814-8358CAE2EF1C}" type="slidenum">
              <a:t>&lt;#&gt;</a:t>
            </a:fld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546CD80-DA1A-42C0-A092-E7321C475F6D}" type="slidenum">
              <a:t>&lt;#&gt;</a:t>
            </a:fld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9E68B7A-3767-4C17-B079-FBC3EFF8DC27}" type="slidenum">
              <a:t>&lt;#&gt;</a:t>
            </a:fld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C00C676-F1E9-4F5F-BCBA-73F290F47CEF}" type="slidenum">
              <a:t>&lt;#&gt;</a:t>
            </a:fld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2528BBE-C9D5-4ED3-AF26-FA370D15CCD5}" type="slidenum">
              <a:t>&lt;#&gt;</a:t>
            </a:fld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709A14D-C3B1-4294-A367-8E9822447598}" type="slidenum">
              <a:t>&lt;#&gt;</a:t>
            </a:fld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58262D4-360B-4842-9B6F-D3C4C6FFA058}" type="slidenum">
              <a:t>&lt;#&gt;</a:t>
            </a:fld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736EF83-E360-42A9-B100-DB88C0AA6FA0}" type="slidenum">
              <a:t>&lt;#&gt;</a:t>
            </a:fld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D24C89A-3E91-49FF-89B0-0EBFBC1E1BC7}" type="slidenum">
              <a:t>&lt;#&gt;</a:t>
            </a:fld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EADEF4C-2B8D-453F-905D-891BC0EA064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BD7B1-CEED-46DA-9B11-2A87D707F743}" type="slidenum">
              <a:t>&lt;#&gt;</a:t>
            </a:fld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DB99193-2704-4E04-8BEC-977FDFB5A4CF}" type="slidenum">
              <a:t>&lt;#&gt;</a:t>
            </a:fld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DE8AD3F-4D95-408C-BCD0-3ACD5C4AF3C5}" type="slidenum">
              <a:t>&lt;#&gt;</a:t>
            </a:fld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4E379E5-B7E2-404B-ADB5-60C7FBAE3FB4}" type="slidenum">
              <a:t>&lt;#&gt;</a:t>
            </a:fld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814075E-6B17-4B04-9914-7522F4F7D20A}" type="slidenum">
              <a:t>&lt;#&gt;</a:t>
            </a:fld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EBD2DE1-2C70-4F5D-B894-F557ADFC18F5}" type="slidenum">
              <a:t>&lt;#&gt;</a:t>
            </a:fld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93E4574-C6AE-48C4-A869-6A52E0B8A482}" type="slidenum">
              <a:t>&lt;#&gt;</a:t>
            </a:fld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ABBD7F1-6C03-49C6-B411-3A78F8C911B6}" type="slidenum">
              <a:t>&lt;#&gt;</a:t>
            </a:fld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5903996-4FBA-4AB7-8E80-9233E5EA8B84}" type="slidenum">
              <a:t>&lt;#&gt;</a:t>
            </a:fld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CB897DB-708E-4248-BAA1-EC03A7E4ADDD}" type="slidenum">
              <a:t>&lt;#&gt;</a:t>
            </a:fld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1194CB3-69CA-4EAD-BC6B-02ABFEBF983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AD87DE-FFBD-44C0-A72B-48336C09A30F}" type="slidenum">
              <a:t>&lt;#&gt;</a:t>
            </a:fld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1323754-11F5-4BDE-BB42-D4DDC2822BF3}" type="slidenum">
              <a:t>&lt;#&gt;</a:t>
            </a:fld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2B334F2-1FB5-40F8-9862-A8BA46D4B6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F350157-458F-4D6D-B2AB-9625443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A083D4A-BFFC-486C-913C-08C773FA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7D00ACF-0116-43BC-99F7-470D5EA4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F27735A-D2AE-4EFD-B501-40AA09F7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5409F10-69B8-4010-9891-8624D7C3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7BA31A2-D720-435C-8DFE-D15853B0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C4B7334-C0EF-4A40-893C-D8FA3071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270EEE5-4C84-4795-BE2E-6B107E0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93FC89-016E-48D0-A790-1D7925C17F71}" type="slidenum">
              <a:t>&lt;#&gt;</a:t>
            </a:fld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1C87F0D-F346-4256-9395-A5608E51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BC7CF6D-BFF6-4B76-944C-7DB19429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856EA28-6C98-4003-9183-1C91EFF44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4F8D22-877B-44B5-A2B2-FB749A427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9E4EA7-2F95-4FA1-8220-38E99723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C17AEC-D4F4-4F6D-B595-40A59E3B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E602D4-075F-477F-8CA1-B8B9709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A4783DA-AE7D-49C8-A23E-C5D4972D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B6473A-87F9-4D30-83F4-5CB14F68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3684C2-2761-4755-9EA4-4E1302A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8643AF-C117-493B-95A4-AD94D6A6DA02}" type="slidenum">
              <a:t>&lt;#&gt;</a:t>
            </a:fld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D3F709C-4079-405C-B0E2-E396D69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6B45325-E51C-450E-8D12-51D7700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3B9DCA-123C-4B57-8012-336A8BEB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25BF29-6618-488C-9B1A-5917CD0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271143-3314-42DD-90EB-4C0A6C69B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1D2EB95-7A97-40CB-BBE2-6721AD28A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4FB45F6-E873-4C94-BAD0-E04BCCC0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0732725-AD20-43FF-8CD3-0E47A92B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07D3785-EDBC-4132-85B5-B4BF477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4324E87-9EF5-4DAE-9AA2-CAF4950F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7DF1EE-F1A1-470E-B368-488CFE4391B2}" type="slidenum">
              <a:t>&lt;#&gt;</a:t>
            </a:fld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079F8B4-E025-4E93-B771-E586D927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95259EF-B8DA-40C2-9B4F-8845450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79753C6-39FE-422E-87F9-82EF779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43B3F09-236D-4727-B241-8B4FF11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0EDE0E0-FEAB-4ED9-A964-7A691B1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E32A7ED-CE39-4183-8D64-491D296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B84846B-AEE5-426E-AE90-EE6015F7B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F978284-7958-47DB-83A0-61F6341B4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D959272-7740-4D55-95A5-1E7BB2CC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A9CDAE8-E533-4827-82B3-16FC17E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45C8E-4D97-44BC-92C8-3CBE9DE3D1EA}" type="slidenum">
              <a:t>&lt;#&gt;</a:t>
            </a:fld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B201E32-B3FF-4070-9AE3-8299C36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F665CE1-1C32-42AA-A547-7E2AF0B8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1353AD3-5F6E-49A2-A74C-C59BB4B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F84C808-0556-445B-87AD-B77D094E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8244813-8473-4719-87EA-58F2C322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3AEBD81-4934-42CE-920E-D71DA13E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BA8AE2B-A2A7-4FBF-B39D-7B113C2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2797D9B-B2C4-442F-B1A6-15E6B52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9FCF665-042C-47D6-BD3B-CF4AB0B41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E62E08-177D-4FC7-8255-DC4A8E599F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7BFEA3-006C-4A9B-A166-91578F64CB45}" type="slidenum">
              <a:t>&lt;#&gt;</a:t>
            </a:fld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DBAC19-6884-41DA-9361-FCDE67E3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3BBD1D9-E677-4817-8BE0-046432C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AB3047-5C9C-4A2F-9692-1412E1E7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E7E55A8-0337-44A5-B61C-D5A0F529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E41BF8F-1FDB-469C-92E0-A76FB04A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8BDA86-D3E3-48B8-938E-80005594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66BD6D-DDEA-42FA-841B-4CD44FCF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BD6FF4-7251-414C-8097-D49F1519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37F669-B58D-4421-AEF4-CC70288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26D061D-6ABC-4A6E-8DE9-289120F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657F-6873-4B25-8738-D863EA5B0B9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FB5BA-16FA-4AB5-B057-BDE1D5E19D7C}" type="slidenum">
              <a:t>&lt;#&gt;</a:t>
            </a:fld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B70133-7AB1-4541-BD79-638AADE8D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959A525-D945-40FD-AAFA-903126B21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6E06E57-441C-4E34-B157-488D0AAF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F51A70F-BE67-4D8A-BF9A-7D6CFA98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A2FA126-11D8-4A9F-BF7A-2BFEA35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8AC1DD4-2475-49CB-9605-C8D41D8B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8AE8CA3-8B21-4449-ACA4-80B923DE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5DB8C38-C718-44B2-BDFE-EB9FBE8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0815736-2ABA-4555-9765-9B629835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C14EE5A-F0C4-45D5-9307-F551606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1A355-8D6F-4340-87DC-DB4E644A44D3}" type="slidenum">
              <a:t>&lt;#&gt;</a:t>
            </a:fld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2458930-4A35-437E-9755-FE0AC627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2ECD75D-8CF8-49AD-8F11-834D6F35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F107120-0261-4CDF-8105-7A8637E5C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B7C34E5-76CA-4172-ABF6-6C90C08E17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5EB2AF6-5A4F-41CF-B79A-656F9DF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F4DFCEA-DE6A-429F-BD8D-7E977676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CC91A9E-6686-429F-8ACA-C9C9741F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A4038D1-4501-4B6F-B3B9-57CB1B34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382C36F-747D-41B7-89A3-BE78EAD3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AE9F726-FFE6-46FE-8158-6972C4A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4B053-3B7B-4530-AB88-81AF0BCA22B8}" type="slidenum">
              <a:t>&lt;#&gt;</a:t>
            </a:fld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4A5AB2D-AEC8-429C-A258-B8E6890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3AC7340-FC1B-4BC7-9B84-63B0713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863CCD4-0E16-4C59-8632-3BE33CC3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8A6D834-0383-475C-9788-2F6A5CE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7B9C5FC-7EE0-4FE2-A437-9220C84DA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97EA49C-3196-4FF7-82A8-4A99401C6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DB2B5C-8176-4A96-B5F0-8289EBAA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5B96E2-7FC9-46D9-B974-DE091962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046431F-04F8-42BB-A7C5-347B12F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7C65933-200B-4DE4-BE64-29BCBBBB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4AD47-F4AC-4B61-942D-8122EE9B3F49}" type="slidenum">
              <a:t>&lt;#&gt;</a:t>
            </a:fld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558602-6B06-4C78-8489-1595A914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5906FC6-C7B5-4FAF-B022-EC84004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5BB14C4-8561-41BD-A941-BE493B1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A27FC4-A75F-4EEB-9403-F5C4915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4AEEEB-6A9B-4130-9DA1-F4238945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DE6EE61-3E38-4021-9733-994A28B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EEFD92-C6D4-415A-BF3E-7E5F91F8FB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26E2349-0F55-4113-89D4-30B102CE5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9838490-CC67-435C-8446-0527DCB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E2640CE-9CE5-4C0D-AFEF-BE01776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745DC-A3AF-4397-BFEB-2066E6EA88FF}" type="slidenum">
              <a:t>&lt;#&gt;</a:t>
            </a:fld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2BEC887-3D37-4AC1-8D92-7606421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BE60CD6-7126-4337-AAEB-8852F1B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162302D-5777-428B-AFFF-B0F2F75A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65D2EB0-FF15-4021-B904-0E3A8A09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FD1FC24-21BC-4D7A-8F2B-C1B53F9D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F001906-3D69-446A-B645-95A1762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B3B3497-9906-4B60-AC26-B0F59F1B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67F4A35-5E8F-49F0-A636-5245463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417287D-1BD0-4E22-823F-4442D89EF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16260AA-155D-44CB-9616-056FA158C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6E9F7-F5AF-4F75-98CE-20C25045F65D}" type="slidenum">
              <a:t>&lt;#&gt;</a:t>
            </a:fld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A8B3372-D0CF-46BD-B7EE-F2CF9E9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BABEE03-90A6-41AC-9240-7AB0886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1B072B1-91C5-47E9-86B8-5D6FD01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CA7EA5B-70A7-4DEE-A55D-3D8B0525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607D061-CC21-4C6A-A4FF-219CE123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F2A8D5F-E726-4100-850C-1C138F6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D0C3DCE-5278-41AD-98E3-6116A28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4FC71BA-DECB-4471-9418-08EE73D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F168784-2EAF-40A5-BDB0-AB60D46E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8864FCE-6766-46E9-89CD-3924A90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5307E-10BC-41E4-B5D7-EB94716D9558}" type="slidenum">
              <a:t>&lt;#&gt;</a:t>
            </a:fld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D4B139E-D3A7-4411-83A6-3E95919DFF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24B5DFE-41D3-4C6B-BFE0-F9E7EE07CF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A6D9F3-0909-4007-9FB1-813FB5D3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B1CFDD-C0F8-447C-8C85-A7BD280F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8FD3D0-3EB1-4F03-BF98-66751B00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DAAFBC6-8BC3-4CAB-B5F3-5C9A092B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4C23CCD-A1F3-42D2-9EAB-134E51B5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CC4FCEC-DC93-41D0-A631-6A20B8D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C973AF-66DB-428B-B430-AEDE318D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2C74EB-B722-4D76-87F8-E25DF7E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6CACC-DEA2-4963-97E7-B36813A33F09}" type="slidenum">
              <a:t>&lt;#&gt;</a:t>
            </a:fld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A403EF-F4AD-43B8-8E39-24ACBCF5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48CF3C-51A3-42B2-A1F2-29B6460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E36042B-6A5D-46E2-97F2-0C44DCA35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2C011-D621-4E24-8F75-0B65763895A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DADD9-1C15-4E3C-BA7B-087161A07B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3260-FF95-48B9-A258-629F2C375E8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90A9D-D03F-43BC-BE79-A82009795DA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9965D-5724-40E7-9A3C-90FC6038D8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FA32A-4548-4CA1-B6FD-0BABC5BAF7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253D0-7F73-482F-95E4-A14D88F625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3C19-4EC0-43F7-B91A-54F3F5311CA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4C6B-CA6E-4B18-8919-013D6C08A9F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F0548-61AF-4C6F-AEAD-7C432087F4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36E7-43EF-4F05-AB3D-2EFBE136FA9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5091-B3C2-4E0F-9F80-072B3115992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2CA1F-CBAE-453A-8481-2B1C33486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0D2A-34D5-4A61-8DAA-02FEB8BF7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51A7-A31B-4D7E-BDF3-EC98D16109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AC33A-B37C-4609-9A05-A199BF6C9F3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6F4C-B80B-4C0E-8F54-75719C7D364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3FA0A-A1E1-403A-AD2A-40D72C7FF31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72D96-A62F-4CCE-9350-F5D8D0D73A0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924D-1583-4528-9EBC-B0B64E67FEE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E76BD6-C5A9-4960-A445-A59AAD20D67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D19716-CB5E-413D-9BF9-A09A52001DA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62B5E-6BAC-4B47-ABDB-D900698619B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AC18AB-53FD-44E0-B50C-B43CB24E025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A7D48-B49D-44B4-AA96-A26F3FA000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9F2E-0A8D-4898-9564-ECE1366E4F7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113E6D-AC02-4C4D-AB05-F8992319444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57E8B6-9EA8-4C7B-A1E1-C3F1CDBBCD3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5FC33D-1013-4B68-838F-2501069B97D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435030-E4DD-440B-BE77-3E41AB4D2B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454383-A2A4-4BA8-93E9-CEF6357FBFE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0DE4AC-FBFE-410B-BDC2-22C78C215DB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B2499E-E926-4959-847D-77236CEC03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8F857-E486-45BA-A015-A3F84848B0E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55A8D-CD7B-4841-B0CA-A5A5B797A91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67F56-741E-4126-B3FA-DD43D9B1ED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7E8E-4305-4CE9-AF26-99EF58DC192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11E3D-C5A4-42EF-813F-534E448C693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1C8CF-2F33-41BC-89EC-21BE4D0892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9B65D-9D3E-41D8-8755-F65E6AD46CF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28EAF-BDCA-443F-A17B-AD117880995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170C1-8627-4268-8CFD-CE249CB573B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3D292-83FE-471E-B779-7E827C98D8C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44B29-2915-441A-8A44-6BCB8AABA3C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BEDB5-486A-4B31-A8F0-4822C011FBC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FD7E4-19D5-4553-965E-52984B9CE12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B6B2-AD3A-430E-8DFD-7246BB38E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4FD1-2130-4EEA-85BB-D557421F421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C329-E1E6-487F-82E8-18F2C12EEF6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B535-42EA-4DBD-99A1-66C9F0ADF7F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134F-6767-4265-9912-CA9243E38C4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FCE9-8DE3-4F3B-AE62-FEB4F945937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E7A7-A64F-4B77-BE34-F7D8EDECC30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43D9-EE3C-4A27-8176-8B70B20E6CE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3CA68-40A0-4DE2-B220-3F47215D930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48624-FCE2-467C-8D2F-797C5577799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D4AE-1B90-4EA7-A081-3181F7442BE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3A4BD-39E4-46D6-8E78-41AF633712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23C7-B735-4995-AE1D-FF8E9CF8670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FB4D-B1DD-4FFE-A1FC-152F484EFA1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6F3101-B7FB-4C08-9847-14DFA053D7B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02379-0264-45C6-9626-A50AB535981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1C9C55-28C8-4D95-B94E-0B6349C3244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5F53BB-EFD5-41A5-8E9A-058411F4F3A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983587-DA10-456A-961F-952ABECEB86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00B93F-B851-4080-8E9B-1DBE14B2CF2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D8BDD1-06D6-420D-B546-81AEFF4E238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B88AE6-6916-4F28-929A-BDBB4D046E0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96123-2503-4A2A-B34B-5171F4D3E3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161-0A5E-4A39-8748-C9C20879AAA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817BEA-3CE8-4B0F-B3BC-E3DAFDDADEA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E2189-20B6-46FE-90C9-0E83935C7C0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EF9BA4-8FA5-4E00-AC84-6E14D6685F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365C91-32F7-4F80-8AA4-E1939A9EA2B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317FC-D7A8-4539-BF80-2A66ECD7F14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F2B7A-126F-4B20-BC27-44A30CE3884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47CCE-8E3A-49D5-B01E-0A879FA30A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13940-0D7A-4DDF-A20B-387934E8C8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145C5-BE9A-4ABB-89A0-1CFF662E37C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8BC50-F15D-461F-8DF5-4551004FD8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DC9-6A00-4FEA-A71C-F056569679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B0D7F-1412-4D24-8C89-40B725CA67A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D8B582-2760-4D4A-B118-998CFD12A7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3E27E-1713-48D4-B3EF-B6560C89DB4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62C7DF-54AC-4F23-B75D-6DB73E0D38B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95B02-F98E-448D-ABBF-03BB1DC5344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058D-B9C4-4A60-A6F5-29D96F3B395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0D61F-94F1-426A-AF68-A39C185EBC8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E7BC-C61E-49E3-AABA-912797C0857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B1CD-0DCC-4ABC-BE5C-6ADEEE37FD4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8201-60AE-40C1-97CB-A281EF87A2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EF9-F2E9-4B5A-8F5B-0C1EC8BCC0A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88C0-7811-4B32-9239-46984593AD7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4A0A8-D991-4127-8896-B0AAE4FAE78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00458-270D-44DC-94EA-27E7D685DC9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54EB1-2952-47E4-883E-7910998283B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1A39-D80F-465C-9614-EAE0B5FB707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BADF-636F-49AD-9BB2-40D979A799D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12CF1-5A87-4A34-B80A-81024E2DBF3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DBE96-1B3A-4E0F-89FC-56DCC22160B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94A80-B2C5-4331-8ABF-15A46BAF041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4470-BA86-4903-90EF-18493C0482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7A4-290A-42E6-A427-22B2CA33BD8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01EB0-600C-41C4-A568-159454FEB35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DB100-BAF0-4EBD-88A2-4CE5CE2403B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181C8-17FB-4752-A35A-8C09C956A54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341A0-143B-4278-8F19-B1B9C6153C8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7E7AF-E5D9-4549-AD34-F25891B7795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B5042-61C0-48B8-B254-D4A32BF9615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988EC-1C4A-47FD-85C5-52C9F31DC46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D94EF-DE4B-45C2-A457-7054018F1DF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0A8DA-F408-40BE-9FF6-DCA4D03257D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5D403-5653-4AD3-B361-BA3B0927A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42B-100D-44AA-A766-E75C52D326F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16B93-F890-4904-B805-9559461F271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BEFE0-B8D4-434D-AC5C-0BAECA318F5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EF6A6-F173-4EA1-931E-58824977BC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3243B-06F6-4B14-A4C1-AB2A105C348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084BCC-25A4-419B-81D7-A83AEEF4293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803FD-7A87-497D-8991-94FFCC4FFA2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95D35-453C-4E09-B8F2-5C3FD696912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75F72-230B-4E9D-9D16-C5E5BC3D22D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460C3F-E58D-4BD8-8D1D-57C884D879C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28137-8D60-4AF2-86F6-4D2D5495F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91C5-5F24-40BD-97AD-205F4DA28E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D90-BF68-4EFC-9570-EF6286CAAA9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E8A04-AA2F-4D64-8697-9DAE1D25489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2F8B3-0B1B-4D39-99B2-B5F7C6615B1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D621-8AE2-4C01-A03D-7B14C84FB26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2A33-591D-443D-8B1E-2DB83F383B3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2D87E-ABBB-44D4-ABE2-03A4B9894FB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84F1B-D9D7-46B5-A2B0-6E0ED105805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8FC90-6A64-4D36-8571-A7DB079092D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38117-CF46-4750-97CA-5B50F79B067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33224-CCF0-4171-9840-8A563587922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9931-E49F-4C6B-A7C5-5FB3FE7FA3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DC2-8857-4FBA-9164-A165ABDC72A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90662-4CDD-4440-9EE4-023D8E6120A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E18E9-6324-476B-825A-55E0F38B5C6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23836-7450-4661-B4FE-0E210BE3ACB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8CAB4-4414-4795-A521-2DFD08B116F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E5B22-C002-4B85-9704-67D4194D5F8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323C7-976E-4146-95DF-1D86D6459C1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B834F-D4EB-42B5-9EB8-42BB9BDD29F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277C6-29F2-43AF-A0AF-6B44B563EEB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153E6-90C4-4E70-A252-CEB7AA3180C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09660-E6CF-4542-8F84-BFB6B976C1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9E1-F90B-4C35-8894-916DCF4658B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3A185-11F4-4A12-8CF9-7F472EF7A8B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4E6DE-0881-4B30-828A-66539C51F6C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CE556-7388-40E8-B1B9-1CBF35BF0C5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3B656-9F81-4D2D-A520-582BBCB880C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3A906-BF1F-4878-86AE-7E0F585A19D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7F54FC-80E5-496A-A59A-DBBA43FC933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905B1-474D-4BAD-8134-3E83357CCA0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52A1BE-CDA0-44BB-8F5F-7F9FDD9936F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2CAFC-A60E-48B2-87E6-A56A3F92D30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FC81AB-430B-4753-BE76-47500996A7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A86-75D7-4A65-AA9E-EF0EF8FF965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DE0483-8659-4709-95B5-47801857F44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26505B-3C66-4E77-9C2B-857D18E98A8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222C87-5738-4AC6-8355-8A26386584A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93774D-F5B8-4045-9B23-9E1FE923939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F2D116-8DC0-47BA-B3D5-21EC8BE1626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81622A-9E16-4C07-9344-639E9686C5F0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D739CB-A7F6-4FA1-95C9-D5D14364A80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96523-1130-4D6E-8CC3-380DCF5ACF8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BB5E6-994A-462C-93A6-9C2CB13E589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4670C-7156-4A5E-9BAF-CA60907E7E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560-D854-439B-A909-9880711547F7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9E6C3-06D0-4485-BC91-8A54C4453B9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2FF4B-FFF0-49C2-BEC3-7B0E0186885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74685-C4C1-46CB-828B-75BCA2FAC6C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754F-E664-4A6B-906D-685EBF5AAAD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8FCBB-8E78-4D3C-85C0-44968DBADC9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5980C-68A9-4338-A970-86C6A2B7C12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B2991-4E3A-4555-BCDA-FB6501E3F9F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C48B7-10BC-43B1-815E-3DE7E7D4EC8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9C027-8018-4207-A2E9-5EE7FB0480A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9E8394-4FAE-498F-9784-65CC22FD43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A86-D67C-4366-8CCB-6BD4ECC7843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650A73-0842-4D0B-B1FC-91E6A2805CD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D90CF3-D9B1-4FD0-961B-5F75328D619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D3BEA5-DFD1-41D0-BE3E-0B0563182B0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555E6D-91C0-4836-B623-898B40FE2D2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1060A1-884A-4C24-82B7-D753387BF65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F6E846-70EE-4740-8090-3006BCC25EE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047D9A-A0BA-4B8F-BDDC-B26D3254221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7D252A-7771-4173-AFAF-3D3FF2CB1C2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230816-B12F-4154-9136-7132A223E18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6C61C5-9081-4E00-8334-07D941A814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2B4-7E5F-42CE-B3AF-C611B9EA1DA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9E4A50-65A4-4B66-AD5A-BFD5BA064AC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A7241A-60E1-4991-86EC-FEB7D3774C5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72D027-6D5E-4C2C-9002-7B59A5878CAB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2B0507-D817-429C-824D-113E6FA29EF8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C36EDC-6916-4311-ABBA-DC237D16018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CAB9C0-0678-4F70-92F4-4A808E28903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0388F9-CE28-4252-B07E-2B14B14E84C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1B4A4-7308-43B1-BC44-A97CA041E0A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F11D4-0607-4179-B89F-C9660D181EE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2B27E3-7D7B-41BB-9400-B259885674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469E4-5730-418B-966E-1C072C62D9C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642409-449B-402F-81BB-BC1C9DBC8C6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38C7E-1DE4-4D71-887A-C71F09E60EC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737CCD-6138-488D-BEDC-BBB28522C59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189A0-F61A-4FED-9DB5-40ACE35FEA0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E94DB-BBA8-49D7-A1D0-457772FB1E7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C22C9-1051-49DB-893C-5320C2B2FA5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D42C8-43B8-45D2-A5CC-C9473748933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28D00-4467-4A75-99E8-9DBB832A53C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8116-BBBA-4F23-9DA8-2A15547F5E3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E7706-7188-4EA2-889D-E838D9B1E3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F9DFF-011E-419B-BE34-CFA6A73A2C97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D4F42-C8EB-477A-A9E4-A397B0BB198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B6425-FB51-4A11-9BB4-6484A3D9B6A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E156F-E46C-484B-91D7-7FABAC9A717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E372-BBB3-45A5-B28C-7BC5CAAE793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266F3-D0BA-46E4-8138-2C1853CF540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065A7-D0BA-41FD-BF4A-37C2C3A88BC5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5CD66-B630-40C3-8F10-D9766026207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F9FD7-4F30-43DD-B35C-73E935D2A7D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36F04-0B8A-450E-93C4-C9167219297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44A48-98DE-48E1-8D62-378D2A3DFB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0287B-C895-4219-9B9D-A6F70CC4D79B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B15D6-DDF8-4F25-8A53-53470F36CF0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85DB8-BE92-4C3A-9E96-5BA89956C9A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E8DB3-DD67-4073-A3D4-897AC485743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99A5E-4150-4BE6-B3EC-6564B458752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C3C8E-C97D-45F5-987D-E3416BC1AC1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12F30-060A-4F05-96FF-C495FA28776F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5ED9F-DD33-4166-86CB-FC4199E4E87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FEC25D-FD78-41C5-967D-F921EFB08C9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C8F505-0387-4AE2-BAB1-B1625CA1BB5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1D35FB-DADE-48F5-91FD-DFB0FE128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3902-2FEF-484E-909B-4A13A18957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77818-2721-4838-82C2-71F46529C607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487FFE-AF9C-4283-9272-BEE2585ECB6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528141-9544-4E7A-B800-9EE8FC037B3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38EA6B-5F19-480C-B32D-C3869FCE799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9D78DA-FEE2-49A6-8924-370B499CBF76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37C695-FDF4-40C0-95E9-DE4569DD79F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DDEED0-EB2F-4073-8C67-255A2B74E854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6A3D18-4915-4C28-BB97-565C40863B1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EDE110-1F43-41E8-9179-F1D4136E9F4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CA3F76-6B7D-4368-BD09-2BD42674EFEC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64B19-8027-44A3-8BC6-51409CF5B7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CC6EA-9F9C-4B8A-ABEB-D0B740BFD6C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45CFF-97C6-4165-82B7-5289FF1F5E2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8E061-F6D7-4C18-ACF3-FBEFE495C70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82629-44D2-4E17-B74D-029C3F6E6CA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7A38-E38C-4B4E-BA6D-0FEA04B73CC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6A57D-5DB3-4480-97AF-F7B6E7E44E3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A5E5D-54F1-40C0-9FF5-FE7D0CE2C14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59194-A0D8-45B9-9F92-0A9614FDFF5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CD41-8AB6-4A23-AD0E-FC418B1D042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3FC06-3730-48A9-AE4C-8F56B6BFB45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520D8-3CC6-44F4-949B-4AB95E9DDC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58939-B4A5-4273-A459-40666BF97E1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F1C61-15B4-4660-9023-24F28610010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4B0023-2BCC-4E4F-BCE2-35CB323CDC5C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71354B-DD7C-4D74-AEA8-56DAE7D43D5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5E1275-2086-4C79-8515-F3EF774D2F8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691636-DF7E-4813-97CF-EDD97CF4BFC0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9A1B3B-D212-4D20-951C-CC4DB2AD403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0874D9-FC41-45DE-8FAC-0103ACF476C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760D52-B3EB-4655-B7BC-093C95EEF5E8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9E8870-B66F-46CF-AB1D-5412D5818041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8664B2-2EAF-4690-9D03-DA4D12712E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6AF35-80B9-45E7-BD5E-CFBE415C05F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29BAB1-C2C0-4E79-9D48-3118E118301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82D09E-7B59-4B28-BBC5-9513182725B9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E67E2E-C20B-4B32-BB8E-2805DEFCB125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4C4A53-C28B-4C16-82E0-DFAC5C4D22C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EF793F-F89D-471A-A5B0-EDD4DF31AA3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499A88-36E6-4841-A7AA-29EB2DB7B683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472662-24A1-4524-8A1C-C027E738EE9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9A2AFF-A678-4D3D-BE15-EE05797AA1B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2007D1-A0D9-4245-AA8B-81D3D70D558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873D40-E09B-4AF6-A520-93DF43175A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63EB4-7706-42A8-88ED-ED93C28B1B2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71F6F8-4CD9-4B26-8321-E6498D04435C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52D7A1-ABC3-4683-A2ED-2B7E37CF0FB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C8EA1-6623-4427-AFB4-19D0ED608EF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B2CAB7-4E4E-4877-B99E-15CCE91B0F0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5DC674-5F7E-4861-952A-2F57FF98078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E97BD-D8A1-4978-9CD1-11DB1EEC11E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1BDFC-2414-453F-873B-2D415B0159A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8A4C3-6A23-4F5E-87F6-1C6AEECB688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CFB0B-83B8-440E-821F-5A0E7B6D6063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8542D-15F2-496B-93E9-187096E1AB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D07C0-03C8-48BB-8664-96C70D769355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9C791-EA18-40CC-88E5-1AEC733BBE91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95939-1E6E-40C0-B888-3F2A8363861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679DD-74F3-46EA-A378-7C78F01E9FA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7E44B-0493-47EE-A5DE-741412F60AA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DD546-141B-47D8-8C6B-AF241991551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A231A-F231-47FE-9048-3B9E6AC8DEF7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D7FF5-1CDA-42A4-A7C2-9A8B8032243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26C9BF-1D3D-4F08-9A34-B38778EDF68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F00F66-77DD-45C6-9215-3AF75F3DECA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75BBE6-0A8B-49A6-93F8-D48C462FF9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90767-E3A5-4D0B-89A4-11D6B7BC9FE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BB90F0-9476-4C27-AA34-A4DD951CDED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FDB9C1-35B4-4076-BF46-A55C6050297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061E3E-7E7B-447E-83DB-69CBE64182F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21391B-3AC1-48E2-89BE-A695B9DE8D3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9BCCFA-C91D-42B1-A618-432A8A45857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45A6DA-1531-4882-A3E3-6D08E5B7565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6227BF-89E7-4661-B35B-38849735173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750526-71B6-4156-B4D6-94AC13446E4A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34266C-310E-4E39-914E-BFAA64C17A5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01A63A-8BB7-4F5B-8452-AAF20E87BA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B8238-784F-4DCD-8A40-45A5FD1B65DF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83F21E-0C9C-4AD3-81FE-A5BE68B50FE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199EE7-E9A8-4354-A4C3-9F7C10F5325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F9A0F8-BE4D-4E62-B1C5-C173E44BE87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4FE94C-08FF-45A8-8DDD-4DF5C0A0A23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52BED9-28DE-40CF-BF0A-1960E5EFD60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91EEEA-C9AB-4D1A-AB08-C2AE9DA33AD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A6BAC4-DDB3-48D8-9240-8FA13E7EB73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5EF324-6AC4-408C-ACBE-AF67EE06CE6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E67D8C-A6C4-43C0-BF27-0D753FA4869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7F156A-BE6A-49F6-A40C-501D8EDE53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65795-2C5D-4560-B160-B31229B5DE1A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B00DC9-0F5D-4A48-BF3A-C6D4CC02C98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D4A2B-093A-4366-9673-85E2CF7E455F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F58F9-ED00-41C8-A199-B51A7980BFB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39C12-BB69-4191-9AB6-758F1C6B692C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D8DBA-BF41-446D-AEB7-58F63CD1896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641B3-D38D-45ED-912A-5F2B89A3DFF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F6D01-3B29-4C99-9628-8DDB422B15E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BB893-A5DC-4B87-A4EE-D904EC6437D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E93CF-D286-40AA-B6F4-4209AC59000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5FC86-1420-4D40-AF4C-DB71D7E8BD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25C83-85F7-4E08-ACB3-B42676978050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5C330-8AE5-40D9-A164-F689B2C5799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CEBA2-43E8-4D36-8E2A-3C8B8131FEC9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C4537-4DAB-4FF9-A57F-6DE6A5C238F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21580B-8A5A-4B44-9A03-EF62188E05C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BF203C-6210-4833-92B7-12AC1173398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A8A5E4-0704-4BB0-B084-418130FFBD3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3AADD9-3D4A-4E69-AB12-08FA02D071D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4BEA15-4F6F-4BF4-AB02-BF4B14D6259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4A659E-6B92-4B8F-9FD4-00722A85ABF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CD8F57-D8BB-4AE6-AD24-DCB7F6E4B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B628-49BF-4B57-8DBB-2CB377E36F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7DD73-28C1-40C2-B665-7BF4641CDBFF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BDD03D-23B6-4069-8091-18CEC7A8054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6DB3DA-7F39-4195-A6B1-D56E564E052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854F42-21BE-4A86-8AC9-3ABEC46A736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D7A5C7-7E91-425D-94DC-925CBB640BB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3878B2-8408-433B-8115-4B626F4F1D2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35E297-D91E-42B0-B335-9EFE0F0104A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D30B67-0700-49E9-B084-337C1E86AFC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DFAC5A-C6DE-43C3-B119-CAEC7E58107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F393FA-F08D-4274-AC30-F87AD736D6A4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1081D9-6FA0-4A79-BB15-D8B7162689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FCB1-4CFF-4843-8219-14C4B7390B1A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098216-A189-4DB1-B567-26CFA9E78A4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9EBE4C-F63E-48ED-927B-4B700C55A54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C53B29-B5CB-4BA2-8D23-0188605A02EE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868CB6-7C0B-4094-B65E-DB831F52A7D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0C8193-E08A-4414-9342-54DA7461204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30F082-AC20-41FC-A05E-C05D9CF916AA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BCD2B2-D97A-4766-8B56-808520CE3CBB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D76F6-55F9-4608-8095-2E9FC6798FD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9F826-2DCB-4AB6-87C1-51D419745269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C2E56-07B9-454E-B48D-3EB4F2C8FF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A1ED1-4D0E-40DF-8B2B-4A7DE509B90D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19925-A02A-416F-80E6-1E905A8B399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2B259-F797-48FE-B634-B4070E9B5938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B8F5F-EEC7-45E8-A3FB-0397DC4C27C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5F866-F639-4DD2-A7BB-4D2B47FC785F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4C12D-993D-4E53-A9DD-0B04B1F5C59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F2DD4-08C0-48C5-B135-5EBA9F91F76E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22EE2-4ABF-4547-B9E9-77EEBFAB7EA2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BD70C-6A79-433C-96F3-B88720759BBA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F4578-7F4E-454D-9DA2-08A527014C9A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AC1393-4033-42AF-9E4E-4EED89835E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6DC4-3965-4266-924C-1FF6D5258475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A9050F-48C2-4D8F-997E-EF907A576A41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5E1601-0C40-4C25-9BBC-EBAAF07602F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15FCC8-E9F5-472E-823C-89194C92CE47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B0067E-41C0-46DB-A525-C70A78EDC7D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4003BF-402B-4EE6-BAFA-E2FDC1BAA9F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AA83C3-C129-4710-A6F3-16472F64D4E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11460B-E785-423A-8BBC-C9BF683CBB8A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BFB4C6-5A41-4B2B-A3A0-E0C20E55429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347910-96CD-4683-9046-43DFCC576377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4D07A4-E7B5-41F0-853B-596419F7C9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2D2E-739A-43B4-B847-2E721D6011D4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43BB0B-A082-47E3-A549-67063BA6EC9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4F70D3-65A8-4B99-B373-F97F2BF4E5A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F321C0-DCA1-4F79-AE4B-6EBAFFA2A237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561CBE-C70F-4D46-9146-D0E3616288E5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430CC3-0FBD-4174-85F8-9921D69B27A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BD7290-B19C-4427-A2BF-7FE9B5F421A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8DCD65-4863-4384-8BE7-C8D0B899103B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007303-ED59-4656-B382-9E6CC3F76D0F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B359D8-D53E-4472-B281-F43AF90D0E91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476A64-C34B-4A43-8785-8A1AC9B4E8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F5412-4251-4969-8F71-5D6523714B5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487FB2-530D-4951-AAB5-002EEF61C2B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DD297A-F7FF-4744-B235-BE7F7E8642A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24DAC0-3FDE-451D-AF54-4ACBD64430C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482DD-9B8A-4BFE-8199-9C4E8C55CAC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1E5AA-D26F-4E30-9C3A-D2855BFCAB4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6B379-B3FE-4E38-9835-DB172796998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D7B6C-1425-4A4D-8FCA-C6442076913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D4BAD-824B-46E0-8860-B65FFCB23CC7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80593-2C0D-4B60-8468-99CB42BA7B73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41CEF-28E8-4469-B544-6B8F63C677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3C91-F922-4F99-AF42-083B0A65CE0F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B304A-2397-43E2-9F43-CB4591C434F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08C35-64A2-4D66-AB12-BDA9691E8030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B62BB-956E-455A-9B3B-71746586D96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876CA-ED5A-490D-92C6-C9E2AC3AFE1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464AE-5223-4EAD-954B-29DB07CD0DCE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9A8EA8-BC45-4066-ABDF-688D8274AB6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3002473-17AB-4A45-B275-69AAE897349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682B64-D1F1-430E-832A-80F6B4EBDF8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48567C-7FCB-4FAF-BD2E-61C5B5A0D16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7DC03A-D56D-46A4-AE0D-30D9751304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4B656-1D60-4DC6-A555-8FA150E7C85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10C43D-3FEE-4242-B0FD-E0E7FC1E27CA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F71248-CD01-4DE7-914B-1F7C43066B2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A7E81F-1A21-4060-B36C-E6D9A7F0ACF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5C3129-D37B-420F-8345-F419FF5921B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4E8244-E218-49B9-8191-62B868B3162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697041-4968-4D06-9842-1CAB6EFB137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2F4CA1-C04D-4644-8C9E-B81647FD16A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77CA57-CAD7-4C86-B96E-5798D4FB04D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F6F5BC-E2BF-4B80-97E4-05C79284C98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31C68A-0968-4AD7-AB80-A65778E527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8BE73-5F7B-434B-9F07-FB51EE0023D8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2B26CF-52FE-4163-A6A8-04D72092701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736571-9E50-4E66-99FE-496347D6F519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8E4D9F-CB47-4938-820C-034DFFB69A0D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3A098D-C8C3-4269-9F1D-09F7E749CA8D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BDC196-5C70-4EF8-9BD3-C1B3047CA46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78FB48-6C2A-4DD3-AFF2-33A9C2EE984A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9C9755-18B2-4627-864B-123268D5D0A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1E4C29-F817-4009-8EBA-57CEE296C60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0693BF-1DD3-4AF6-BDF9-C46DAB9BEA34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54A30-AF87-43AF-9E5D-D588027141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017D0-F9C0-43D4-A979-3C1A940DC3B1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DA44C-62C6-41B3-9133-376E4C0D4698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94C73-F069-45CE-B5D2-F4ADD423FBC4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B5E04-1551-41E6-81F9-4ACC034BDCB9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A98AB-6CAF-461A-B82F-595563DFB7B1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AB125-9CE5-4CF3-9A56-D851980E7D7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08C2B-2EAB-4CBA-BC15-187CB906A6EA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513D9-9F71-44EA-8D81-0ED733E9A2A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C4370-AED4-4A36-A9D0-18D2266A12B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151ED-C4E0-4900-880B-BDF60990DFCF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322F5-CBC0-4C5B-A7D8-6DFD9A965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ADAE-3E6B-4F9A-932E-3849E684D8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9A8D5-0F1F-4D5C-AE68-970D8CA0F082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A50E6-04A0-40E9-9E3D-E5D0EFB11837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F2BBA2-D9ED-4667-8A49-EDFA1594276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8B9A54-1E3B-4D36-B387-9B496D3CBE8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250897-64DA-4C04-92D0-34F5E394277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A00F5A-BE0B-4D42-ADE9-2E081C88D20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032A11-9090-4A19-8285-C8CDC6DEBB3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8B8112-44FB-4F9E-B563-0AA1F0E25DC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82A839-DCEE-4B31-BBC4-F22CE3451043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24BFDA-C2C7-4DF9-AD5C-9010F663443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956636-5CA8-4B26-8D44-C67462BF9D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88F-8FD3-4241-952A-0750982541E5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84780F-55BD-4981-9BE7-F11A8D53299E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0A86156-FEAC-4394-87B6-243562A0B7D9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A6B615-3010-4506-9E27-637FB90731FC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B95447-4522-4391-B66E-921968BB20CE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1B11A8-9699-4681-8F46-3AA628FDE6FA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700DEF-EC84-4DE4-BAEC-AEB4EAB7CA90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045AF8-8991-4757-B1ED-78CA9ACDD529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879737-B0F6-46C6-8CAE-91F9EA1B4FA6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793E3E-1F5E-4ECD-9C01-CFE037AC53FB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7C467C-9AFD-414F-BCF2-D628F0CD06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8397-A51D-4752-AF03-54008D864E33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329C62-29DB-465A-B279-1EB12BC53ACD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A3861C-AAC3-4792-A6EE-0654C30DE2B4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12563B-C239-4D81-AD79-2695A08F2D3B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DDC8F8-AD82-489A-93A3-733870DB6237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BD5044-B9DB-46D0-85C1-EB7AAA5828D8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46997-3143-4823-8CED-3D862C29C07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FD57C-70D9-415F-8118-F35D38ADEC1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99FF3-428E-47B1-AC52-D75766CC23C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2BEC6-2762-4676-9C30-F2600AA5009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B11FA-D829-4645-A13A-D033D3951F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9787-2E9C-4C77-A524-8D0E5D04E0CD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55CBB-6658-4A2E-B78D-2566ACDE0C48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19302-2AEB-42AC-95FA-B53A00070D30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6DBFD-5F8D-4EB1-B268-926091780D15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8630F-A651-4924-85B9-EBD38F2E05B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011D5-D701-4C88-B244-6725ACAE48A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F3A4E-5523-4F8C-8D29-9EE134B8F10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8E72C-9186-4BFB-8CDB-8987363322E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604FE5-D777-4793-B35D-872C9BF46F74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206A6A-47F4-4A7B-A530-95A901493FF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6855F23-9C5A-4E6B-A890-CD46476686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A901-7796-45C9-92D8-6F77EB4BB30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29AB08-0C50-49C0-B613-C4912F993EDF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345963-6E5D-429E-B043-427D66B3E83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0BA348-11F4-45B8-84B7-9544D5283691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EC89BE-E9FB-4036-9211-A6DCC919DAD3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4917980-3533-4758-A116-670ED7E28930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19BCC3-98F2-4B49-B1BB-830AC85D1C90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B6421C-D0AE-4D61-8D51-FF3395364594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3ACD11-ACA7-4559-92A3-0B8893902005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39408F-ED02-4EDF-8D13-B22DD5F8EE38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E04BA8-22BD-495E-8FF3-0CE6DE29EE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3E0C-66BF-4447-A362-5CF3E1BADA1E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53FF45-1493-4AEB-B370-3D63B199FD0B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0E9D51-2FD2-4F5D-82ED-AD539585B96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D8FC4A-7177-4089-A4D7-292EE696426E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A6FB01-448D-4A93-9297-328FAACA740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9089BF-79E8-467D-8603-29C96387D97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749513-83FD-46E6-B021-28EB15CE75C4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C1B9BF-B353-4E8C-B6F3-2766132D8563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4C8F74-D234-4179-8420-6E5504789BCB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3BCB59-7D45-4F4D-85CE-CF422FD5938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AA829D-5734-4AAC-80C9-A3CED3B798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FAAF-9872-4CA5-A6D8-8D15288AB0C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6940148-FC84-4290-AD67-08C4BC108F3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573A7-291F-4C57-BC78-E682A150223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AA528-FBD1-4396-8D82-E206DA0BE6B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66436-4691-4905-AD08-261ADE38936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2647B-E77A-4C22-BC9B-E59DDEE46B9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9ADA3-D8B4-4CCA-B7AD-CBE2BCA1830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B3785-863E-4604-8FD6-7FCC0ECDDD6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61A23-DF83-4399-B1FA-F5C4D096158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A5621-9B22-465F-BC40-E312AD6104F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8607A-8B78-4698-A9A9-FE66D70B58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ABF0-CFB3-43E9-8DD9-0A001A439DBD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FC7CC-A78C-4001-84DF-53355443F63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F6100-C60D-4BF2-8B83-1B87CD2B774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8E840-EA40-419F-BAFA-EEDD3D77A80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EE4246-855E-428B-939B-CE6AA103289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A7EC8D-BF57-4286-8718-862D2EB2014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B404E9-E5E7-4459-BAF6-54CD7E413ACB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C86678-9C8B-4951-84C4-87AD1E162BC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050E57-864B-442F-877B-E45147C538A1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07FC6D-E3CA-4656-ACE8-DD8C439FEB3F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922995-1E70-41E9-AABA-1A5ABCA905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6081-49BA-44AA-9D04-D761EEBAAF9A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367412-D687-4C48-BF8C-6D5ED094DFC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F0297F-0545-44A6-B2EA-C3F10C62A557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996C9F-9133-48B1-9F7B-A1B9983F1783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0D9435-7B32-46A2-8A75-0E921AAA3B2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D7D01E-BC53-4A82-9F8C-4B858D25152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1CD01D-CAA6-4430-882D-EDA8E64A343A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3002E5-B394-416C-8110-FF3A900339BE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07B76C-B774-4276-A8D3-02A35E76AF9A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466B04-5461-43FB-B016-4FA7C906E304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97164A-BABD-41F0-BFE2-0FEED55EFD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96B0-CF28-4AA7-B06E-B7216EFFC7F1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82C3D2-846B-436D-A623-A9D80729E75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0BEE9B-C074-417D-B55D-C80D72B6DBB4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70083B-EFD9-4749-80DE-08A89CE1F0A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E3FBB7-4A62-4C85-8A27-056B6D6A911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391876-09D1-45C3-9B9D-BE7B618FBF0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C4F736-3A0A-4751-ABF1-AB4EF4DB517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E73EC3-3AFE-43DE-9D71-77AA76FCC5E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92CCD-208D-419E-933E-B8C69A1ADA1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237D7-7B38-4C63-A3B6-EF6DBB7CE5B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5DD8C-1515-4DE9-AE98-B29F77560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B3F1-4B82-4030-BC1B-8F69F43AB5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436C-6BE2-4AE2-A296-8BE8BBD4912F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42FCA-DFC8-42E6-BC05-36A27F871F2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17D78-B751-4967-B6F0-1CCFF71915D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DE917E-93CF-43B6-9F1F-E74C60045F2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F42AA-76B8-4B4B-86B6-1A257B595FD3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BE039-A2DE-4F1D-B550-7617769F577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DAD43-EF89-4F41-89AA-2A52A3FEBF4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39AE0-4EB8-491A-9EB8-991E98D7E9F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73A3C-C952-48A4-BBE5-DBABB7EA07C1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3689A-4BCB-4522-AB87-751645E8F1C8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94A262-8BDD-4174-9B55-0A57F20B01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E0B-AFED-4ADD-BF81-56DB81E8488A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8FC0AC-5C44-4AD3-880B-46B71520AD35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9B3A44-E794-4A10-8DE9-4650D98E0A16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9E89DE2-FA90-4276-93A1-5400F9D55C11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88EF627-F7D5-4C2F-ADCC-0B0A16763A43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E2474A-0D94-4CA1-9107-EF0A763D0C69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635508-EEC9-4678-B80E-D5D4A664914C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C9DB2A-3C04-412D-9A08-734885DFC106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5C22D0-54AC-4979-93DF-51AE870BBCD4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A7F5C4-2CFF-4C95-A3A9-BA954446C995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0AAC9C8-ABBE-4938-8A82-A3E5AEB94E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3ACE-D1DA-4F78-898F-27BF51E984E0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0F1D4D-2D2C-4906-8659-31F287B99A46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532EF2-8F27-4642-8AED-AE40F9CC3C1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4B452E-C396-4E05-BE1F-6C6427373C1E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82F4D2-729F-4EB4-9C76-A1F1797F1B5B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082482-5F41-4A2D-85C4-417F2EFD50E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00CAC4-B2CA-44BD-AA15-B0B71746320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8DE3A1-BE56-46F6-96EC-44A0560BD98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9CD91C-A755-4438-A2E3-1F11DC611DE0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119E3F-98E3-489A-B2FD-8E1485D3EA42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FF97F7-59B7-4882-B38A-0A9C583D8A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E77A9-0E7C-4CBB-B627-B3B9CEDCF6E9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1C6742-1A65-4589-9C59-F26D061A4278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1A9568-BE42-4D9E-B181-65A49B5E7237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A87B70-E121-427B-A830-851015A6D9BD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F0A5A-4193-42D1-AC20-95B15FB36D45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A3C96-79BB-4E37-906C-237A0F0BD28E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7C58F-7B3A-46DC-AEFC-183B7E9063A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3A144-9338-446E-940C-5FAD043E1D4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0CBB98-8126-4259-B584-BA469797C9FE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FFB73-3A94-467C-9B2D-88DBF960D1D2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09483-98DE-49DA-B6B0-5A0A21F87E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923DF-CF2C-4EAD-B5E1-82ED28719A98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C06E8-867F-4515-A0F4-975A7750C0C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522C5-FE5B-4703-9E59-DB196DF0CB6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9226E-6A0F-4173-97D3-8D38AC1BE69C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BD0D3-2026-4571-B248-3BEE70EA9F08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3604E-86FA-450A-A415-F0A0FE10EBC7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F9981B-BE26-4C19-BFF5-F1673E71CAD8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4FA06FC-C41F-40FA-ABD9-3125203E338D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BEE0C6-B674-40C2-9571-60298ACB881B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CCAF73-ED26-42B7-9E6C-D71CD023D864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3D6E70-21CB-4C6C-B3CE-FA927FDE7D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60586-C908-4F45-93C7-71AF72F4DCE1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815AEE-0B15-4E35-88D9-86566411A4E4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8BA527-F4A6-4ADE-B9B8-6E9A639B553E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57608D-870E-4DE1-8E4E-DEDA6B5D6D4D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F0C62A-0146-41C8-ADC8-387A823180DC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974322-840B-461A-A3DF-A9DCD53919EA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F049B9-5761-42DD-8C38-5454FA4933B8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0ADC1E-7A8D-46C7-A2F0-3091443880AC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0130476-FD6E-474F-8512-A6B14DF9C420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548DF1-1502-4275-8B9A-C2995531F723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6DB1BF-D803-4797-A2C9-A5BB6CDD9A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603B0-E6BC-4830-B520-59617E4F1EE4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3F063D-B035-455F-8724-2EAD69618217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E7ED77-E246-41AF-A54A-98FA7E6B7FB0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565EDB-79DF-400C-AAE2-75A8FA0C9115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7FD9D6-A63C-464D-AC6E-59F95A3FA0F9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709B7C-6622-4C10-9B5C-13AE0F41BEFD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4BAB68-2D57-4810-8DF2-AB43DF9A59BF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D19BCE-89AD-421D-A481-22C2FA10974A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4080BF-1A14-4E9F-91E9-EC2AEDC3F146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06C060-5711-467E-9CA8-B14F8AE845FA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3818D-57ED-4A92-B775-32CE33C0AA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984ED-B9AD-4017-B057-7CB7051D8E07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70786E-79B4-4607-B160-C88230544A1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583B4-FD37-4228-98B5-55881DB9BDD3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91D261-73EB-43B0-90BC-8C39FE610DF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5A167D-D0D4-4A61-A14B-DBD593CC0C3B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438655-931D-400E-9FE7-8329D3158786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667BD-6D60-4139-A03A-CB7F106D4EE1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8C4AF-933B-487E-96B0-7B2B33470C8E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FCF19-037E-45CF-8714-EDEAEDAA2F69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8B6D2-CFA4-44C7-8B01-9B9B1583A0F2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29BEE-CA96-4454-BCC7-2A20505579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1DBFF-853A-4C57-80E2-4AC39A425457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7525F-D0EC-4D3B-951F-27BA8A84E0BE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870D6C1-1A16-456F-86E5-C947AA5934FC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756F6F-FB5A-4A25-A3EF-E69C19A9C05F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FFC23F-5C25-4B70-912D-1C8882EE26D7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4D327E-3BDC-4EF4-8ED4-DCFDCEA57AD0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DA110C8-7EE7-4599-AD00-2CADD19764F1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3073ED6-BEAC-4B8D-BC52-14EA7D215A6A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29DB159-E60D-4EFE-BD96-B256D836600E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3AD537-6B60-489A-A7D8-01546C8DF0CB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F3B8727-8150-4192-BF56-F5DE7CDF82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844BB-A3B2-4350-95B7-A4775108DAB4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07A748-979A-458E-9C6C-E134EB9318A0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879E86-2F1C-4737-8505-D317B07459A2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42B291-F3EA-43C5-9934-BAA3D66D8EA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07E738-C1A7-464C-A1A5-E465CF333C5F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32B471-6F43-4575-9B8A-FE01C737785C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6EFDEF-D6E8-409B-9DDB-DF942E3DF031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C53733-5F6A-4EF1-9CB1-E84E66D2B8F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6F3C2BE-F01F-43A7-9289-75AA2C5A3F28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A41519-06FB-47F2-975B-38BBDDE2081A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EC4D7A-E013-4A5C-A58E-24ADEF168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1777-5AE5-4610-B4CE-FE096A6C0A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7BAC4-E6D4-4991-A5EC-74B882FDAA04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E90383-5386-450D-90C9-949B65D064EF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72159E-99FD-4BD4-BE20-7D0BD2021F33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526CD5-F5E1-4065-AED3-9134FBFD2C26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7A6942F-B6BD-48D8-B514-606BC5489474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396248-8FD3-432B-B818-9483A0329AC3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769CAB-A080-4457-9608-7A87B627A5AC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177BE-0ED8-4D54-972A-2001D5AA9F6C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96483E-3439-4CC7-9842-D6D0DDD36A2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A3DCC0-9C63-450B-8A6B-B87AF0D9BACC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3E0C00-3974-4C2F-9380-62ED71A9D9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D1B2C-BF44-45B7-8FA6-1AB234842766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06778-7FB7-4E1C-AD2C-36263EFD0FEB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8824D-BCA8-4C7B-9ECF-CABB5678F29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84F21E-DB15-443F-AA0C-992D8458E799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FE6589-1BE6-4925-8BDF-128498419130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35EB4-E7A1-4EBA-93BF-49A7DE612B30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7DD50F-EC80-4BC8-8BAC-C5189A0B1392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269B4B-DAFD-406B-AF03-2EB852F499F3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749E0FD-A1CF-48ED-A575-4811317DB33A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05E222-3D23-44D5-8BAB-D364C650BA2C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9ADB73-2B10-4B76-9E85-10DB0B45D2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FF90B-6D2F-48B5-9D8F-315F61451FCF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3F989CF-8B6E-48FE-A5D4-E4C8D04C6EE2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60E5F1-5587-4386-9EE1-894F348BF47A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E063F8-9C36-496C-872A-B93B2557D03C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FA4E70-4377-4BC6-A764-C1191252127F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86A567-CD63-4943-BD4E-66FF68BBDFA0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32309A-C2D2-4056-8EEC-8CE4B6C8B8D1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06895F-F6B1-43B3-BCF6-9D3D7BC85CAF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9D15C39-72BB-466C-9E3E-9F51EB5AC1CE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9C939B-2986-4773-B9B6-6AB5AFC6FBFE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FE898D-D99D-4858-A048-DAA8C7E10D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7CEA2-A7D7-444A-904F-FED10963A051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08E9F6-2022-4A44-8CEF-F8909F254DF3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0746C0-3BB4-4B84-A46F-30559C65A6D8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A5F504-437B-449C-A41D-AF2F219DAE38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196D05-5D4A-4431-99C1-F9733E8BE34E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46E777-7017-4E56-A3EA-9C056351A187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D99151-ABCB-44AF-949E-D611EA3EEE3D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197946-1E9A-451F-B464-32A0CB3F850F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190A7D4-5215-4AD7-B3FA-0453FE009487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DF279D-35F6-4648-904C-017696960931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0E5F6C-148D-4CC2-8F72-E4B93D7ACE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B5C2C-0239-4E4C-94C9-19250AC6A1C9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DE173A4-0EFD-4EF5-8B21-B8358CD96754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6D848-F97F-4BDC-AF3A-B08563D44B8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CC4515-D6C0-47B7-B0FE-B34C530B6404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63343F-41FD-44EB-B074-33BCF2FBAA2F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7EB1C7-8BB8-416E-BA2B-4EB0E76F69ED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CC94D-F254-49EF-9636-9B19739F9E56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4087A-A49E-4EDF-B777-8E8FE763134B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271375-3B31-4CB7-938F-A3226125FF06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E97EB-61A3-41D3-851E-351AC57F39F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8E669E-C1C3-40DE-AEBC-98240697D3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11A30-21A1-4A49-9663-31ADF71B680B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E0FF87-2051-475D-B98F-85BBAA73F665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BD37B8-A400-4B90-BF1C-F1D2942D1563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7A5D3E-35DC-4B40-9E70-6C5238A9A314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E1D177-D308-4A99-AB3B-C403D6CA5BD1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9C7493-402A-46E4-8700-A038A945F61B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4B8C41-5412-45B0-A37E-FB3557B51B3A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944143-69E9-47C6-8F87-D98CEE619DAA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0293A6-7C71-41C8-BD58-C2DF5A67C564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9B9E07D-93F6-4692-B495-E4C7FBED9876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3169E2-E252-4FFD-9888-D1524F9AEF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0C5C7-4132-4C4D-A879-1E6220F613A5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FDC454-B041-444E-AFA9-45DF9DEDA5B2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1412FC7-9D41-4FCD-9DF2-CE31D8D55CEB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50D56CA-8FD5-42F5-A6C7-248FA73FE4F2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A4391D-6C32-4BA8-BF40-A23E1437E3BE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2D8427D-B1C8-452A-98A2-5BCBE182242B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AA11A6B-2555-434A-B010-DC4D338B7233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0A5F0C-F9CD-43EE-8D9C-DF18BEF93D81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9E3506-6051-4B1A-8CCE-68B2989A4E6D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DD04A1-E30E-4F4A-94BD-3D2A24B6D578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FB5097-D481-41A8-A42F-0EEA18B07C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487BA-C0B7-4538-9BE3-192F5ABB15D6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9FAB07-9679-4158-8887-0FA75E6D7F71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1B011E-1B8C-4A68-96E4-E76300495351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BDBEB6-FF74-4368-BC1E-A0BE624FA334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3434174-10C3-4A90-A561-B7DC4A998F85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071BAA-EA91-4515-BDC5-6F73A88128F1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CB477C-0279-4D46-9113-DDF0DD28AAF4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4BE996-59E3-4CFB-9CFD-C1D1D656D2B5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89BAA5-0537-4EF9-ABED-CD5A622502F3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C40787-68AA-4841-874E-EE9507AE7A18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D68896-BC9D-40AF-9BD7-4870738760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A8545-0412-49AA-8682-452520868C7D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6F7E7C-739C-4D71-9F6B-13DA872C3CE1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3C42B8-277E-49E0-B62B-E95F3CE70695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556500-3E47-4C25-A0C4-021646D5DE0C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FEB005-92B0-4E59-980A-B689948A20E0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57BE38-45C3-440A-AFDC-B441F8A06683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5B20A0-4BB6-4E0F-896E-81B8350A087B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ADC836-65FB-4B2D-AD5C-40CC8CB96FA6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7859D9-0168-458F-A5D8-0080FB383CF3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7D52A5-7B45-420D-9A46-48F3DA962FE2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2EAEFD-93A9-4C3F-98AB-E08BA43F2B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ADAED-6A40-49A8-9196-91A43BF1B146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7371EB4-0176-44F6-AD27-408E49C1AF29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A39A07-4CFB-4F8B-917A-146C8A0EBCA1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B2B205C-B025-42DA-B090-15CC448885D3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BB41B5-B6DF-4E9F-B141-1A933C21780C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1E24A47-39B8-4D83-9A5F-81635C81A774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6844202-FEF3-4448-9582-7562462C0C05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4E9DC10-C96D-450C-B881-282E80E21BF2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D9C22C-2942-44C1-8A0E-DFDF0D9A929A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7D0BF8F-F7C5-427B-AEA7-BA825DB85965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AD7539A-D568-488F-8135-0918D874D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F6D3-5BDC-4142-8529-98A9F3DE24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97095-D5D5-419B-866C-6E77573E9291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5D1BBEE-D419-4401-AE24-EFD114D3E96C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8F15AC5-3099-4469-9360-7C45BB1A0E3A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75E093D-E9F4-4111-9B62-4A328BA79DD0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C2B85B-1041-450D-9C27-BA6F1874DBCB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0AF723F-0F11-4B3A-B72C-A83E4D0336EC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0E8CCD7-BE46-4E83-9ED3-C00B506D20DC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C40524-AB7E-4A91-844A-5B3B2D9EA866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6E9C3A-BDF9-4FBC-AA3A-3CD263295974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80930D-FA6C-4325-9179-4861095546A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65E3046-C595-4E95-ABC6-994FD46628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F3A8F-1FFE-4097-8A01-F8A2FE96059C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15A388-2AD6-40DE-90F6-5D41EA2CD74D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878670-3699-4822-9052-D9D2508389B3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E88820C-6558-4EBA-B98C-5C9848EF6C35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8C9BE7-A558-4082-A28B-939264C1F0D9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7A7BA1-60BE-4B04-97B2-E00C398AB2CC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654C82-E0B9-4ADF-BC76-78C4ADDD4EA9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C8D2A5-0FE8-4367-BDF8-80D2BDA4CFA4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053E05-458E-49CC-B2B8-363A1A890B66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CD4293-8F0F-4060-8726-7A2E97D3FC67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B779D7-9FBB-49A7-8BCB-B30B0C3DEC0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69533-EE21-43B8-8788-338AE433EC74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09B098-6513-4223-A104-CF0BE0C00070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AE6CD7-9AF9-411B-B8B5-D3E40D82B157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852432-1EFE-4EDD-A4F9-3E6CB8F7EC5F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1B2BB1-0931-4F52-A288-FDC0EF14A643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58C9BE-5A38-4B75-9BEC-380460B74EE5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6C4B113-8609-423F-BEA0-E40A5038EE88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0BE1F01-CC0B-4E60-8ADA-6D2906C8C79B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D6C1AB-312E-4CED-BF71-88E92D40BA80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0F62FE-5070-4D04-9F0A-CE0B6B7B35F2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D99E9DA-7D23-49AD-8B54-F7AB1A6A2A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F6940-0BEC-4831-9A8A-9225E493E5F2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1C02A89-7217-415F-BC8C-51DEEEFE5F7C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A086BD7-23E7-47E6-B0C1-4E72E68D03D7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CFEBAA-EB8F-4C9B-BF56-821DD33F85D9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11E9515-3C8F-4E1A-A56B-1E645B3F3069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39CDE9-FBDF-4DE8-BA55-F1810DBA86CB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43B129-E4D9-4E8B-9CC6-E45E38E55712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F53176-891C-43C0-878B-00D81082A04D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95AB99-CD74-4842-A2A8-06F8E343F7F4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E33576-F53E-4944-A2AA-1F0EA1AA4607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8FA521-D843-47CB-AB50-39E9FCE07F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DF257-9AD6-49D4-B114-7A9D519E8568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ED09EF-1D72-4470-92EC-73AC8D77B4BE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9A0A67-7478-4014-82A5-28D4AA1B3479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875E8B-5AC3-44C8-992E-6F79173CB9C1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753B509-651D-4BD1-AA0A-45F7441FE34A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4B4099-708C-47A4-9005-D25507023CFC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1A1B59-CD00-4844-82A5-F8750E030EFF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1D2892-BAAF-43B9-9302-07F742E71995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0BB5BF1-4238-4277-9475-E919AC3030E0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AA57ADF-229F-47E1-A772-4314D6767A0B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CE5A38-9B85-4E2D-8EEF-746E2914510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60C9A-D839-4D2D-9D89-7014AD7F9410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B35959-A715-4320-B0DF-B49000689429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9B198A-0E0A-47CD-96F3-802406B61A15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E80A7C-0A13-457F-8022-F9DA97A270F2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7D3460-DAD5-4348-B696-4851600E459C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A7553-B0AF-4DDD-9CDF-A69D2E1D026C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B97545-DF86-4933-B92B-475DF9B83093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B4EB43-EE93-479C-B254-D49C41ACC0BF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65BFBE-ADEB-4955-A6CA-01DA8FF0EECA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016351-9B9F-461C-BA51-FBC854675F8D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558BE7-F7F8-48FA-8F82-FA97A384FD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58BE6-EA20-44C9-ACED-99427598E27D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73BD01-26D6-4AF5-B4E5-A78B0A30C713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ACFC7B7-13EE-4602-A9B6-D09A44ECE660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A75FAE0-6374-421D-B63B-BE7D74213285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541C998-37EF-4BCF-ACE9-919AB7671060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F4ED51A-1D62-4D67-8B37-B7570F64E6D9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1AC98D1-6998-4AB7-A5CA-642FD9311BB0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C437335-4287-4DAF-B6E0-7DC73ABEF7E0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9064359-C89A-4190-96EF-F6082A4BE6FA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F6E874E-3A40-4C51-BCF0-A5F78818C232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E455594-8D22-4716-9C70-544DDD8D01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6613-FE42-4EAA-873E-998E50208861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D17702-0B2F-430C-84CC-FC849B4192F8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1195F0-B216-493F-8BB1-CDE9C5A66EF4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59E112-6650-418C-AFB9-5BAC24D20648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1AC982-4478-43BC-A6C3-FED51C724518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C2B9CA2-5AA8-4442-8E70-6F7BD83DF258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9009C1-083E-4E5C-B005-CF998CB69E55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29CBF07-9477-4C24-93EA-6C23FEF03DCA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813B10-114F-4A98-803F-377272AF134B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EDAC0B-0890-4933-9FC4-4C4A81F441BE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9566480-60F4-4911-B032-7EEDE56190A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6E6F-9899-4928-9821-11560993C466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19B342C-8B7F-4C57-A157-EF333D34A7E8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036864-8A15-4C70-9029-F474CF1120B2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75727F-9197-4AC0-BAF8-93D79249794F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5B1B6E-4527-4949-84D6-5ED877D5561E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5004134-9BCA-4050-AA89-0DAC0A8C5F24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6234F7-6E31-4FC7-BC59-4D78BFFC9E1C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9B0A60-5902-46FA-9EBA-9375C6C8E46D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7C9CF9-B24E-425A-94A9-21BFAF0BBF7F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5C0FD8-238B-4B1B-9CE6-899BFD2785E1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680460-4EB1-42B8-A2F5-DE0A7313C8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6582-658D-4C93-BEAA-3CFC872A32FB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32FA42-89C1-451E-B240-16F67FE5DF98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05FBCB-E1F3-4B36-9B23-F3B55142B2FE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2BF67B-13C7-4AB4-A266-C4046BFD63F3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F74CEC-F11F-46AF-A075-56874AD6C3B5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23B1EE-69D4-44A6-9A97-A30B55EC2AD8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ECD2FC-7EF9-4C50-9BB0-FBE43800EBB8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FE5B11-7764-4A16-8518-A6874EB7119D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8023DAF-D104-413F-9C17-ABA0169E4122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25EE8C-E835-4FFE-9118-B27A0F47FECC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9B2A36A-7A04-4FA3-AFC8-E5C58AD1E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E0E69F-C342-4A98-9560-DF37A354250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59A6F1-275A-4FC0-B31F-7A107C1F18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474A10-4D30-4393-9253-9472F073505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 type="sldNum" idx="10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D9C43-FB8C-4BBB-8B28-C833860C7D7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 type="sldNum" idx="10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850813-16D1-4A75-8692-AA9C5919C0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980194-A6E9-4C49-B566-C89972625DD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 type="sldNum" idx="10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C8F1BE-8FB4-4E67-B9B7-D8325914524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 type="sldNum" idx="10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1E1412-1010-4EEE-8129-95113D4E40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78A741-4755-4CA6-9808-E49079F93DF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 type="sldNum" idx="10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B38E36-CE1F-4A2C-ABDA-6520D23BC5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 type="sldNum" idx="10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D1FC99-DC11-4586-8BB9-03BCFDF9E7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0F1589-6237-4824-AB4A-A43E184D87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36CBB4-2AD2-4833-BFA6-6EC42EB354F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 type="sldNum" idx="1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459DAE-D559-4355-A684-C00E2630CD1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 type="sldNum" idx="1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690937-4DFF-486D-88D3-0425C8A80E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CEA233-EA15-457C-ADF7-0E58B55A2CD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3"/>
          <p:cNvSpPr>
            <a:spLocks noGrp="1"/>
          </p:cNvSpPr>
          <p:nvPr>
            <p:ph type="sldNum" idx="11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C9141D-4082-4110-9961-C34B0D94151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 type="sldNum" idx="1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D79A55-7A1F-40F3-86A4-56824D72574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 type="sldNum" idx="1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81664D-0F43-47C3-A15C-078423F4FB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E471B5-ACD3-4892-91AA-0505B9D289B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 type="sldNum" idx="1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717D49-EB75-4C1F-B2AB-BBD6EB1A89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3"/>
          <p:cNvSpPr>
            <a:spLocks noGrp="1"/>
          </p:cNvSpPr>
          <p:nvPr>
            <p:ph type="sldNum" idx="1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7F8D5A-C499-432A-83CE-722AFB426C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 type="sldNum" idx="1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8E608F-7471-4E97-BDD5-05A072661ED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4D0718-2941-4CBB-921A-77E200CEC4B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3"/>
          <p:cNvSpPr>
            <a:spLocks noGrp="1"/>
          </p:cNvSpPr>
          <p:nvPr>
            <p:ph type="sldNum" idx="1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54468F-FAFF-4D71-9171-B47D07C31B7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 type="sldNum" idx="1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2360BE-73E0-4842-B359-4D7DA80B9A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35CC9-6C98-46F5-80AF-F644E74B8C2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 type="sldNum" idx="1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F1799-8B83-4D5B-A5F9-7C9F41F7AB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3"/>
          <p:cNvSpPr>
            <a:spLocks noGrp="1"/>
          </p:cNvSpPr>
          <p:nvPr>
            <p:ph type="sldNum" idx="1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F5C0A2-6C9E-4E82-92B1-A533EA3583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CE4B48-946B-41C5-B737-A81D92C21B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 type="sldNum" idx="1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D5A796-A9C4-4B1E-A49C-EA78303D5D9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 type="sldNum" idx="1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D07ED-0EEC-4BA2-8EFF-ACA7F776F67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 type="sldNum" idx="1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BBD45A-93EB-4A64-B238-4351F8F5B7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 type="sldNum" idx="1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389A65-E8E4-4131-A7C1-C589D7012ED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DE1571-331B-41DA-9DFB-CD798DFAF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3"/>
          <p:cNvSpPr>
            <a:spLocks noGrp="1"/>
          </p:cNvSpPr>
          <p:nvPr>
            <p:ph type="sldNum" idx="1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A1E6DD-C620-4BD2-BB54-99B35FD6D51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sldNum" idx="1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9271A8-181E-48DA-83F9-D1C3E4490B5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 type="sldNum" idx="1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9A83ED-1F18-4BB4-9345-910852859BB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 type="sldNum" idx="1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AE679E-51C4-470E-8783-6036EA1864C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3"/>
          <p:cNvSpPr>
            <a:spLocks noGrp="1"/>
          </p:cNvSpPr>
          <p:nvPr>
            <p:ph type="sldNum" idx="1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6EE054-D0A2-4510-9B94-AAC35C4015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61AD8F-B620-40ED-9E26-0BCC6EF23C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3"/>
          <p:cNvSpPr>
            <a:spLocks noGrp="1"/>
          </p:cNvSpPr>
          <p:nvPr>
            <p:ph type="sldNum" idx="1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1F76AC-ABA0-4F5D-8777-866DD2A9F08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 type="sldNum" idx="1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5CE23-4076-4C24-82CE-7B38CBE27E7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 type="sldNum" idx="1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861FCA-5775-4FB5-A9CE-7C84C129DF7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 type="sldNum" idx="1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715C56-7BD2-41B2-8B05-8F9DE0220A6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23033-3587-4AD9-BFF0-E7C9469E44E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3"/>
          <p:cNvSpPr>
            <a:spLocks noGrp="1"/>
          </p:cNvSpPr>
          <p:nvPr>
            <p:ph type="sldNum" idx="1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4B279-6FEF-4B57-AB99-3ED9810A4F7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 type="sldNum" idx="1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817FD3-9C07-43FD-8789-063F36234C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3"/>
          <p:cNvSpPr>
            <a:spLocks noGrp="1"/>
          </p:cNvSpPr>
          <p:nvPr>
            <p:ph type="sldNum" idx="1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859BAB-19C9-447E-98D7-54DD8D179B1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3"/>
          <p:cNvSpPr>
            <a:spLocks noGrp="1"/>
          </p:cNvSpPr>
          <p:nvPr>
            <p:ph type="sldNum" idx="1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CAB5BE-307F-4682-B6CD-91A211674D8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3"/>
          <p:cNvSpPr>
            <a:spLocks noGrp="1"/>
          </p:cNvSpPr>
          <p:nvPr>
            <p:ph type="sldNum" idx="1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FCB8A-BD1E-4D20-8AA6-5AEBE6EA02B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 type="sldNum" idx="1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F61E52-80EF-4919-A2C9-C188705ECFC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 type="dt" idx="14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1296AE-36BC-46B8-B4DA-11DE5CE04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 type="dt" idx="14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 type="sldNum" idx="15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C82C33-4930-43EE-B159-FA1029322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 type="dt" idx="15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 type="sldNum" idx="15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DF119-8A11-4785-9C46-9A0D94DF1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PlaceHolder 3"/>
          <p:cNvSpPr>
            <a:spLocks noGrp="1"/>
          </p:cNvSpPr>
          <p:nvPr>
            <p:ph type="dt" idx="15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PlaceHolder 4"/>
          <p:cNvSpPr>
            <a:spLocks noGrp="1"/>
          </p:cNvSpPr>
          <p:nvPr>
            <p:ph type="sldNum" idx="15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4EBFAB-A133-4807-BF36-75F134C56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8A9CA1-4155-41EB-8400-48DDB252F7A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 type="dt" idx="15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PlaceHolder 4"/>
          <p:cNvSpPr>
            <a:spLocks noGrp="1"/>
          </p:cNvSpPr>
          <p:nvPr>
            <p:ph type="sldNum" idx="15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0873C1-0646-4967-AC55-C8D1F2EAF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PlaceHolder 3"/>
          <p:cNvSpPr>
            <a:spLocks noGrp="1"/>
          </p:cNvSpPr>
          <p:nvPr>
            <p:ph type="dt" idx="15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PlaceHolder 4"/>
          <p:cNvSpPr>
            <a:spLocks noGrp="1"/>
          </p:cNvSpPr>
          <p:nvPr>
            <p:ph type="sldNum" idx="15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B08B19-278A-4106-9653-F1C05C276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 type="dt" idx="15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 type="sldNum" idx="16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65F10C-C8AA-47A5-B7C6-50DEFAE7A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 type="dt" idx="16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 type="sldNum" idx="16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1D9356-2E54-46D8-889F-62D88FD4D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16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sldNum" idx="16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2BB8B5-F863-4D59-9A57-558033057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PlaceHolder 3"/>
          <p:cNvSpPr>
            <a:spLocks noGrp="1"/>
          </p:cNvSpPr>
          <p:nvPr>
            <p:ph type="dt" idx="16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4"/>
          <p:cNvSpPr>
            <a:spLocks noGrp="1"/>
          </p:cNvSpPr>
          <p:nvPr>
            <p:ph type="sldNum" idx="16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EAD13B-6638-44F4-94CC-FA6F9FAC7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PlaceHolder 3"/>
          <p:cNvSpPr>
            <a:spLocks noGrp="1"/>
          </p:cNvSpPr>
          <p:nvPr>
            <p:ph type="dt" idx="16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PlaceHolder 4"/>
          <p:cNvSpPr>
            <a:spLocks noGrp="1"/>
          </p:cNvSpPr>
          <p:nvPr>
            <p:ph type="sldNum" idx="16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89EC63-D170-4018-96EC-84564CD5D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2BF7E3-BC29-4459-9E0B-C39AF02EA0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1288D1-A5DD-4ABB-ADE7-D9F4F405838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659A0-9015-46A5-A81C-A228AB6E7C7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87996D-31F3-4582-A6B3-C165AF39E0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B0176-51E7-4B36-BE00-656F0A703F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0D48BA-EB8D-4CF3-9275-556C9D7CFF8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7F35F9-D6D0-42E1-B6CA-EB47D9B753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15A617-7E02-45E5-B4A5-76EC6408F4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A0BF63-9356-4D5E-A7E7-DB0B9A3E891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11248A-7121-4A19-ABA0-E186CDE466D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E8B0CD-630F-40F9-A417-2C425D43C4C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B60D6-B18B-4286-8AD5-35FD6C3B06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B7235C-BF33-46BC-9308-4C2DEE56BE4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778017-2050-4DF5-8FD4-BCD7B98471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88F4A0-435F-4470-8F2B-E3596BF65F5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700E96-FCDD-49E5-A11F-72E1FA95CE3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FFDC9E-6E27-46E8-93A5-7A6263829CB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62D2C-356D-4A73-9135-4B19DAD9A5D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D2A70-7B55-4D0F-AED9-9D9F54F569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E0C277-5A95-47A6-9D3F-46B238F3799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5DFD7A-2114-46DB-A914-1DF23E6D44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A572D2-1A51-446C-9400-95E398F88ED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E400AA-B06A-44C9-918A-B167ED93898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1636FC-819B-41E5-87A9-B640D46ECDF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FFD158-A7C5-4D5D-A520-CA9A54F7556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274D19-160F-46A7-808B-76B2EB15B1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00429C-672D-4B1C-94AB-80E45B430E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97A2B6-601E-412D-BEB2-3A8598D4F3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E34ACE-9945-4156-927F-09F63DDBE88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D40189-B660-4275-A72E-7CD83306B4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3EABB8-56CB-4E69-8477-FC8AC005910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4CCFB2-693E-443B-B737-506F0015ED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D77C83-F68E-41E6-9CC8-C82587B164E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A60A56-28C5-4C65-AFCC-B42D775179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0CD4C8-9AD7-44ED-A75D-57A7FCF1BDF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2C054C-7A09-4A5C-937A-8AADE40BE4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7E3B90-3A0C-41E2-BE3B-A7B975AB774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0D1F8D-64C1-4D74-8E4F-9EAF077A3E9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656BA4-A360-46DF-ADEB-E74EB87ED1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9BB167-2E54-4FB8-A089-5DCFC6B6F2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46DB6E-7651-459B-8A7C-7CEF96494C1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1CFB51-5523-40F3-A3C5-49CC8F4618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EAF59-C7E4-4AD0-B8BC-38CA73F96E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703AB9-14A7-497B-A947-3C21F7AF48A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445777-1B9F-4D88-B05E-F70434099C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88094F-C4C4-4B01-82EE-9A5ADA00AF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B4A17-07E3-443D-837C-419250D4F56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AE69C3-354D-4082-A3A6-7193480E17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350263-83DF-45B9-96DB-37B845838D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90F3C-DBCA-4C9C-8C7F-F12A8F0FDF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B5BEB0-9D1F-4646-9D97-27F7EC88D2B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E0C610-CDE4-482C-BB91-04328A61C7E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sldNum" idx="6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8202C9-05BE-488B-92EE-7DBD31717D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B44FF-0DBC-45A0-8685-F2F52E0F2BA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8D79ED-1F21-45FF-B08C-03447110011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sldNum" idx="6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AA606B-6A66-40BE-9FBC-E45A47BFC3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67C88C-F918-4F9F-AD3A-B47860EAB7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0B04DC-5204-4AAE-903C-D94153F8DF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sldNum" idx="7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D22DAA-EDEC-4171-A9C1-AD69874BCF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0A2935-6765-4C97-9546-E3852ABE5F6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13179-456A-4DA3-B8E4-9A6A8072071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24650E-BE71-451C-95F6-EB7D192B924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sldNum" idx="7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558DD8-78FB-46F0-AD26-1E1E4D4565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522EEE-5DEB-4065-843B-F4D6251DF22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58C420-0969-42B3-9A58-424AA334840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7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95A8EF-EABF-41F1-B0C0-F4626164F9A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84C587-F9DF-469D-B6BC-ACD070D73FB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F1820D-BB1A-44C8-B3B1-394A535487E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 type="sldNum" idx="7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4B9D5F-7FF4-4E7B-B9C7-4FB728FB9B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0B2F3C-7AF8-426B-92E6-16006B9AF20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BA0CDD-E1E1-462E-BCEC-AFDF0DF1478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DF3610-6774-49BE-B3D0-B666F18941B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sldNum" idx="8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D17DE0-FD4F-4FB1-9991-75AEA47D6B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5630A5-2EEF-4256-B6DF-DF2DE6AE0A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F229F3-86AD-43BF-AEAD-78444900DDD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8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98D24-19F1-46EA-A55C-AA22B644639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C8B81D-1BDE-4DDD-9B8B-FF93F1329BC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31C823-142F-4E05-88D4-6520E4FCF9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 type="sldNum" idx="8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1CC59-0AB8-4211-8838-BD3512E4D3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B27561-C7D6-4816-816F-DB4A05AD88E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CF5F2F-B99F-48EB-83F5-6956192A210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D40158-C635-49CB-A28B-C937B6889D8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 type="sldNum" idx="9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7EBCC0-35F8-4969-BD85-6DA79B2872F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EEE282-70BB-4778-B9C7-793948649CF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391C31-8BAF-4166-808C-5B655AD267F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sldNum" idx="9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9FD616-B388-4C8E-AE85-87DA63FB03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ACB6D5-613A-4DAE-AA63-35892336783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12730C-D918-429C-8917-350E7279E2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Num" idx="9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639BC1-B9ED-4F36-8049-4CF7C7C8815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7F7654-498D-46AD-8F58-B05B6B2D59E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 type="sldNum" idx="9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6001A-E0A2-45C6-9C09-1B4A552407B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 type="sldNum" idx="10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1D43BE-58F0-409B-902A-6F497EF2DEF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5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53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Rectangle 3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6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6397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6398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6399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6400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Text Box 1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7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7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Text Box 1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8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8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8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Text Box 1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9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9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9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Text Box 1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0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0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Text Box 1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2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2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3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3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3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3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4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3" name="Rectangle 8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4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4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4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5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5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4" name="Text Box 1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5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5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1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0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0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8" name="Rectangle 8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3" name="Text Box 1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6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6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7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7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7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9" name="Rectangle 8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1" name="Text Box 1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8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8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8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0" name="Text Box 1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9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9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0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8" name="Text Box 1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1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1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7" name="Text Box 1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1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2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2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6" name="Text Box 1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2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2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3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3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5" name="Text Box 1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3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3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3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4" name="Text Box 1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4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4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5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1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1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3" name="Text Box 1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5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5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2" name="Text Box 1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6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6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6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7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7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7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7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0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682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683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684" name="Rectangle 5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5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Text Box 1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Text Box 1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3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 Box 1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8" name="Group 2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6439" name="Group 3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6440" name="Line 4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Rectangle 5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Rectangle 6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3" name="Line 7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4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5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5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Text Box 1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6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6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39:24Z</dcterms:modified>
  <cp:revision>1</cp:revision>
  <dc:subject/>
  <dc:title/>
</cp:coreProperties>
</file>